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comments/comment2.xml" ContentType="application/vnd.openxmlformats-officedocument.presentationml.comments+xml"/>
  <Override PartName="/ppt/comments/comment4.xml" ContentType="application/vnd.openxmlformats-officedocument.presentationml.comments+xml"/>
  <Override PartName="/ppt/comments/comment6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20.xml" ContentType="application/vnd.openxmlformats-officedocument.presentationml.comments+xml"/>
  <Override PartName="/ppt/comments/comment3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1" name="Prof. Murino" initials="PM" lastIdx="2" clrIdx="1"/>
  <p:cmAuthor id="0" name="Marco Cristani" initials="MC" lastIdx="6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<Relationship Id="rId65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06-02-27T16:30:30.505000000" idx="4">
    <p:pos x="10" y="10"/>
    <p:text>Non e' che i lpunto 7 serva come condizione da valutare di uno while? E' come se qualunque azione a buon termine diminuisse tale contatore. Il giudizio a buon termine viene dato dalla fase 6. Questa e' una mia interpretazione.</p:text>
  </p:cm>
  <p:cm authorId="0" dt="2006-02-27T16:28:40.646000000" idx="5">
    <p:pos x="3626" y="3920"/>
    <p:text/>
  </p:cm>
</p:cmLst>
</file>

<file path=ppt/comments/comment2.xml><?xml version="1.0" encoding="utf-8"?>
<p:cmLst xmlns:p="http://schemas.openxmlformats.org/presentationml/2006/main">
  <p:cm authorId="0" dt="2006-02-27T10:00:50.078000000" idx="1">
    <p:pos x="10" y="10"/>
    <p:text>Da rifare...</p:text>
  </p:cm>
</p:cmLst>
</file>

<file path=ppt/comments/comment20.xml><?xml version="1.0" encoding="utf-8"?>
<p:cmLst xmlns:p="http://schemas.openxmlformats.org/presentationml/2006/main">
  <p:cm authorId="0" dt="2006-02-27T19:11:13.271000000" idx="6">
    <p:pos x="836" y="3131"/>
    <p:text>"cattivo" mapping, anche se un sovrappiu' di oggetti sullo schermo puo' dar origine a confusione. Bisogna trovare un buon compromesso tra oggetti in esposizione e richieste. Evidentemente i gruppi sono piu' richiesti delle mappe... lo spostamento via etere e' preferito a quello reale?</p:text>
  </p:cm>
</p:cmLst>
</file>

<file path=ppt/comments/comment38.xml><?xml version="1.0" encoding="utf-8"?>
<p:cmLst xmlns:p="http://schemas.openxmlformats.org/presentationml/2006/main">
  <p:cm authorId="1" dt="2002-05-10T15:55:17.240000000" idx="2">
    <p:pos x="10" y="10"/>
    <p:text>Integrare con Mussio ?? Shneiderman ??
</p:text>
  </p:cm>
</p:cmLst>
</file>

<file path=ppt/comments/comment4.xml><?xml version="1.0" encoding="utf-8"?>
<p:cmLst xmlns:p="http://schemas.openxmlformats.org/presentationml/2006/main">
  <p:cm authorId="0" dt="2006-02-27T10:25:13.318000000" idx="2">
    <p:pos x="1672" y="3116"/>
    <p:text>Sinonimo di interfaccia: sistema interattivo. L'interfaccia</p:text>
  </p:cm>
  <p:cm authorId="0" dt="2006-02-27T10:07:42.703000000" idx="3">
    <p:pos x="2238" y="2380"/>
    <p:text>Disegno del'uomo e della macchin. Si inserisce l'interfaccia. Si evidenziano le freccie che simboleggiano lo scambio di informazioni, ossia l'interazione</p:text>
  </p:cm>
</p:cmLst>
</file>

<file path=ppt/comments/comment6.xml><?xml version="1.0" encoding="utf-8"?>
<p:cmLst xmlns:p="http://schemas.openxmlformats.org/presentationml/2006/main">
  <p:cm authorId="1" dt="2002-05-14T14:14:27.967000000" idx="1">
    <p:pos x="33" y="1877"/>
    <p:text>V. libro HCI Dix
TASK language --&gt; user language
descrive gli attributi psicologici del dominio significativi per lo stato dell'Utente
CORE language --&gt; system language
descrive gli attributi computazionali del dominio rilevanti per lo stato del Sistema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163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992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E9606408-D254-429C-9C66-92EB8AA916F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992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tto gli stili ci sono le enabling trchnologies, che abbiamo visto nella lezione 3 (il compu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992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i punti sono presi dal preece e vanno approfond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stema Star della Xerox 1981 e Apple Lisa 1984, primi sistemi a manipolazione diretta (Lisa primo commerci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992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metafore sono ortogonali alla divisione vista primna, si possono vedere come “generatori” di modelli concet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992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 parentesi il modello concettu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messo linguaggio naturale, non sono sicuroi che sia uno stile, mi pare piu’ una tecn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6320" cy="3837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992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odulo si puo’ vedere come uno stile domande/risposte evol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etto al Dix, ho omesso 3.3 3.4 (Ergonomia) 3.7  3.8 3.9 (Esperienza, da riprendere nel desig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tenzione =  azioni di alto livello (generi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zioni = azioni di basso livello (specifi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D32-0F1D-466E-9C2B-13A5ADDB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526-9B9D-4BC2-A8F6-93AC43E1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7B5-0BE1-471A-BFCC-FF064148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73B-1DC7-4E62-9D8A-A0DCC802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959-BC34-404A-9FDF-B145AD99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C39-CA12-4CB9-B370-56553059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68B-791C-4183-82B6-21CD6098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478-AE99-4FD6-9CCC-D20B6DF9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79B-7474-49BA-AAAD-83B1714D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560-0F61-4CF9-B17F-7058AA4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F2E-21B0-418A-BD4F-5C143A87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24B-C84D-4734-A6D1-46E4BCA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2e005d"/>
          </a:solidFill>
          <a:ln w="9360">
            <a:solidFill>
              <a:srgbClr val="2e0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2e0f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c2e0f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c2e0f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2e0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2e0f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c2e0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2e0f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c2e0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76E6-E6FA-45C6-A15A-C524E1E44B3E}" type="slidenum">
              <a:rPr b="0" lang="it-IT" sz="1200" spc="-1" strike="noStrike">
                <a:solidFill>
                  <a:srgbClr val="c2e0f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t.wikipedia.org/wiki/Interfaccia" TargetMode="External"/><Relationship Id="rId3" Type="http://schemas.openxmlformats.org/officeDocument/2006/relationships/hyperlink" Target="http://it.wikipedia.org/wiki/Parola" TargetMode="External"/><Relationship Id="rId4" Type="http://schemas.openxmlformats.org/officeDocument/2006/relationships/hyperlink" Target="http://it.wikipedia.org/wiki/Collegamento_ipertestuale" TargetMode="External"/><Relationship Id="rId5" Type="http://schemas.openxmlformats.org/officeDocument/2006/relationships/hyperlink" Target="http://it.wikipedia.org/w/index.php?title=Pariteticit&#224;&amp;action=edit" TargetMode="External"/><Relationship Id="rId6" Type="http://schemas.openxmlformats.org/officeDocument/2006/relationships/hyperlink" Target="http://it.wikipedia.org/wiki/Gerarchia" TargetMode="External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8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3960720"/>
            <a:ext cx="3959280" cy="2773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azione Uomo-Macchina</a:t>
            </a:r>
            <a:br>
              <a:rPr sz="3600"/>
            </a:b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L’interazion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7A7-F52C-4E34-80C6-FBDA83C096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e0f9"/>
                </a:solidFill>
                <a:latin typeface="Tahoma"/>
              </a:rPr>
              <a:t>Ciclo di valutazione/esecu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L’utente stabilisce l’obiettiv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Formula l’inten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Specifica la sequenza di  azion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Esegue le azioni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Percepisce lo stato del sistem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Interpreta lo stato del sistem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Valuta lo stato del sisterma in relazione all’obiettiv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8008920" y="34383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38160" y="14572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valuta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30960" y="458136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esecu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5865800">
            <a:off x="6761160" y="365616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 rot="16081200">
            <a:off x="6719760" y="1562040"/>
            <a:ext cx="609480" cy="1218600"/>
          </a:xfrm>
          <a:custGeom>
            <a:avLst/>
            <a:gdLst>
              <a:gd name="textAreaLeft" fmla="*/ 81360 w 609480"/>
              <a:gd name="textAreaRight" fmla="*/ 528120 w 609480"/>
              <a:gd name="textAreaTop" fmla="*/ 212760 h 1218600"/>
              <a:gd name="textAreaBottom" fmla="*/ 883080 h 121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39400" y="19908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obiettivo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89600" y="262908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94320" y="247644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38680" y="1714680"/>
            <a:ext cx="1282680" cy="1008000"/>
          </a:xfrm>
          <a:prstGeom prst="cloudCallout">
            <a:avLst>
              <a:gd name="adj1" fmla="val 58416"/>
              <a:gd name="adj2" fmla="val 30629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895480"/>
            <a:ext cx="3809880" cy="1905120"/>
          </a:xfrm>
          <a:prstGeom prst="rect">
            <a:avLst/>
          </a:prstGeom>
          <a:noFill/>
          <a:ln w="381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13320" y="1320840"/>
            <a:ext cx="1752840" cy="685800"/>
          </a:xfrm>
          <a:prstGeom prst="ellipse">
            <a:avLst/>
          </a:prstGeom>
          <a:noFill/>
          <a:ln w="381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40F-553F-4F48-9CE6-60E4D08642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62920" y="40384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19840" y="262908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94320" y="247644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Interfaccia come traduttor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’interfaccia esegue “traduzioni” tra due linguaggi: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inguaggio dei compiti (task): usato per descrivere l’utente, i suoi obiettivi, le sue azioni, etc…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inguaggio di base (core): usato per descrivere il sistema, il suo stato, le sue capacit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etc…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629400" y="1295280"/>
            <a:ext cx="380880" cy="3505320"/>
          </a:xfrm>
          <a:prstGeom prst="line">
            <a:avLst/>
          </a:prstGeom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19954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2e0f9"/>
                </a:solidFill>
                <a:latin typeface="Tahoma"/>
              </a:rPr>
              <a:t>Linguaggio dei compiti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48440" y="199548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2e0f9"/>
                </a:solidFill>
                <a:latin typeface="Tahoma"/>
              </a:rPr>
              <a:t>Linguaggio di base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560" y="403848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utent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E65-E274-463A-8D8A-B74069356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ヒラギノ角ゴ Pro W3"/>
              </a:rPr>
              <a:t>_x0016_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Golfo dell'esecuzione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ifferenza tra le azioni formulate dall' utente per raggiungere l'obiettivo e le azioni permesse dal sistem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Golfo della valutazion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ifferenza tra la presentazione dello stato del sistema e le aspettative dell'utente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’interfaccia 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un </a:t>
            </a:r>
            <a:r>
              <a:rPr b="0" lang="it-IT" sz="2400" spc="-1" strike="noStrike" u="sng">
                <a:solidFill>
                  <a:srgbClr val="c2e0f9"/>
                </a:solidFill>
                <a:uFillTx/>
                <a:latin typeface="Tahoma"/>
                <a:ea typeface="ＭＳ Ｐゴシック"/>
              </a:rPr>
              <a:t>ponte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 gettato sul golf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89600" y="262908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94320" y="247644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5865800">
            <a:off x="6591240" y="365616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 rot="16081200">
            <a:off x="6629040" y="156204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480 h 1218960"/>
              <a:gd name="textAreaBottom" fmla="*/ 88416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447920"/>
            <a:ext cx="304920" cy="609480"/>
          </a:xfrm>
          <a:prstGeom prst="rect">
            <a:avLst/>
          </a:prstGeom>
          <a:solidFill>
            <a:srgbClr val="2f27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2e0f9"/>
                </a:solidFill>
                <a:latin typeface="ヒラギノ角ゴ Pro W3"/>
              </a:rPr>
              <a:t>_x0003__x0016_</a:t>
            </a:r>
            <a:endParaRPr b="0" lang="en-US" sz="32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4114800"/>
            <a:ext cx="304920" cy="685800"/>
          </a:xfrm>
          <a:prstGeom prst="rect">
            <a:avLst/>
          </a:prstGeom>
          <a:solidFill>
            <a:srgbClr val="2f27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2e0f9"/>
                </a:solidFill>
                <a:latin typeface="ヒラギノ角ゴ Pro W3"/>
              </a:rPr>
              <a:t>_x0003__x0016_</a:t>
            </a:r>
            <a:endParaRPr b="0" lang="en-US" sz="32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1295280"/>
            <a:ext cx="380880" cy="3505320"/>
          </a:xfrm>
          <a:prstGeom prst="line">
            <a:avLst/>
          </a:prstGeom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5029200"/>
            <a:ext cx="2057400" cy="609480"/>
          </a:xfrm>
          <a:prstGeom prst="wedgeRectCallout">
            <a:avLst>
              <a:gd name="adj1" fmla="val 2856"/>
              <a:gd name="adj2" fmla="val -122134"/>
            </a:avLst>
          </a:pr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Golfo di 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esecu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1143000"/>
            <a:ext cx="1447560" cy="685800"/>
          </a:xfrm>
          <a:prstGeom prst="wedgeRectCallout">
            <a:avLst>
              <a:gd name="adj1" fmla="val -93421"/>
              <a:gd name="adj2" fmla="val 49768"/>
            </a:avLst>
          </a:pr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Golfo di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valuta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Golfi</a:t>
            </a:r>
            <a:endParaRPr b="0" lang="en-US" sz="3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D74-A69E-4725-AE9D-108F540E56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ヒラギノ角ゴ Pro W3"/>
              </a:rPr>
              <a:t>_x0016_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789600" y="262908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94320" y="247644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0" y="1447920"/>
            <a:ext cx="304920" cy="609480"/>
          </a:xfrm>
          <a:prstGeom prst="rect">
            <a:avLst/>
          </a:prstGeom>
          <a:solidFill>
            <a:srgbClr val="2f27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2e0f9"/>
                </a:solidFill>
                <a:latin typeface="ヒラギノ角ゴ Pro W3"/>
              </a:rPr>
              <a:t>_x0003__x0016_</a:t>
            </a:r>
            <a:endParaRPr b="0" lang="en-US" sz="3200" spc="-1" strike="noStrike">
              <a:solidFill>
                <a:srgbClr val="c2e0f9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19200" y="3809880"/>
            <a:ext cx="2504880" cy="2438640"/>
            <a:chOff x="619200" y="3809880"/>
            <a:chExt cx="2504880" cy="2438640"/>
          </a:xfrm>
        </p:grpSpPr>
        <p:graphicFrame>
          <p:nvGraphicFramePr>
            <p:cNvPr id="146" name=""/>
            <p:cNvGraphicFramePr/>
            <p:nvPr/>
          </p:nvGraphicFramePr>
          <p:xfrm>
            <a:off x="841320" y="3809880"/>
            <a:ext cx="2282760" cy="2438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1320" y="3809880"/>
                      <a:ext cx="228276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619200" y="4978440"/>
              <a:ext cx="576360" cy="217440"/>
            </a:xfrm>
            <a:prstGeom prst="rightArrow">
              <a:avLst>
                <a:gd name="adj1" fmla="val 50000"/>
                <a:gd name="adj2" fmla="val 66267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760" y="4748040"/>
              <a:ext cx="647640" cy="6494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4659480" y="1219320"/>
            <a:ext cx="2808000" cy="863640"/>
          </a:xfrm>
          <a:prstGeom prst="cloudCallout">
            <a:avLst>
              <a:gd name="adj1" fmla="val 2004"/>
              <a:gd name="adj2" fmla="val 115805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voglio salvare questo lucido 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59480" y="1219320"/>
            <a:ext cx="2808000" cy="863640"/>
          </a:xfrm>
          <a:prstGeom prst="cloudCallout">
            <a:avLst>
              <a:gd name="adj1" fmla="val 3814"/>
              <a:gd name="adj2" fmla="val 111944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Devo premere l’icona di salvataggio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037760" y="1066680"/>
            <a:ext cx="3886200" cy="1371600"/>
          </a:xfrm>
          <a:prstGeom prst="cloudCallout">
            <a:avLst>
              <a:gd name="adj1" fmla="val -245"/>
              <a:gd name="adj2" fmla="val 67124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Devo spostare il puntatore del mouse sopra l’icona e poi premere il tasto sinistro.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1143000"/>
          <a:ext cx="228312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1143000"/>
                    <a:ext cx="2283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657360" y="2082960"/>
            <a:ext cx="1222200" cy="649080"/>
            <a:chOff x="657360" y="2082960"/>
            <a:chExt cx="1222200" cy="649080"/>
          </a:xfrm>
        </p:grpSpPr>
        <p:sp>
          <p:nvSpPr>
            <p:cNvPr id="156" name=""/>
            <p:cNvSpPr/>
            <p:nvPr/>
          </p:nvSpPr>
          <p:spPr>
            <a:xfrm>
              <a:off x="657360" y="2313000"/>
              <a:ext cx="576000" cy="217440"/>
            </a:xfrm>
            <a:prstGeom prst="rightArrow">
              <a:avLst>
                <a:gd name="adj1" fmla="val 50000"/>
                <a:gd name="adj2" fmla="val 66225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31920" y="2082960"/>
              <a:ext cx="647640" cy="6490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5334120" y="1523880"/>
            <a:ext cx="1224000" cy="358920"/>
          </a:xfrm>
          <a:prstGeom prst="cloudCallout">
            <a:avLst>
              <a:gd name="adj1" fmla="val -3050"/>
              <a:gd name="adj2" fmla="val 267254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??? 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952880" y="1371600"/>
            <a:ext cx="2160720" cy="503280"/>
          </a:xfrm>
          <a:prstGeom prst="cloudCallout">
            <a:avLst>
              <a:gd name="adj1" fmla="val 990"/>
              <a:gd name="adj2" fmla="val 212458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Ho salvato? 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723560" y="1219320"/>
            <a:ext cx="2411640" cy="1008000"/>
          </a:xfrm>
          <a:prstGeom prst="cloudCallout">
            <a:avLst>
              <a:gd name="adj1" fmla="val -4907"/>
              <a:gd name="adj2" fmla="val 99601"/>
            </a:avLst>
          </a:prstGeom>
          <a:solidFill>
            <a:srgbClr val="2f27aa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Ho raggiunto il mio obiettivo? 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800600" y="1219320"/>
            <a:ext cx="1944720" cy="863640"/>
          </a:xfrm>
          <a:prstGeom prst="cloudCallout">
            <a:avLst>
              <a:gd name="adj1" fmla="val -12615"/>
              <a:gd name="adj2" fmla="val 123893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Eseguo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Esempio negativo </a:t>
            </a:r>
            <a:endParaRPr b="0" lang="en-US" sz="3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9B5-995B-4E89-B45D-E34BC7A313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85800" y="1219320"/>
          <a:ext cx="251928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251928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ヒラギノ角ゴ Pro W3"/>
              </a:rPr>
              <a:t>_x0016_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789600" y="262908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494320" y="247644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0" y="1447920"/>
            <a:ext cx="304920" cy="609480"/>
          </a:xfrm>
          <a:prstGeom prst="rect">
            <a:avLst/>
          </a:prstGeom>
          <a:solidFill>
            <a:srgbClr val="2f27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2e0f9"/>
                </a:solidFill>
                <a:latin typeface="ヒラギノ角ゴ Pro W3"/>
              </a:rPr>
              <a:t>_x0003__x0016_</a:t>
            </a:r>
            <a:endParaRPr b="0" lang="en-US" sz="3200" spc="-1" strike="noStrike">
              <a:solidFill>
                <a:srgbClr val="c2e0f9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320" y="4073400"/>
            <a:ext cx="3128760" cy="2708280"/>
            <a:chOff x="76320" y="4073400"/>
            <a:chExt cx="3128760" cy="2708280"/>
          </a:xfrm>
        </p:grpSpPr>
        <p:graphicFrame>
          <p:nvGraphicFramePr>
            <p:cNvPr id="170" name=""/>
            <p:cNvGraphicFramePr/>
            <p:nvPr/>
          </p:nvGraphicFramePr>
          <p:xfrm>
            <a:off x="685800" y="4073400"/>
            <a:ext cx="2519280" cy="270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4073400"/>
                      <a:ext cx="2519280" cy="27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76320" y="4838760"/>
              <a:ext cx="576000" cy="217440"/>
            </a:xfrm>
            <a:prstGeom prst="rightArrow">
              <a:avLst>
                <a:gd name="adj1" fmla="val 50000"/>
                <a:gd name="adj2" fmla="val 66225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0880" y="4608360"/>
              <a:ext cx="647640" cy="64944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>
            <a:off x="4494960" y="1295280"/>
            <a:ext cx="2808360" cy="863640"/>
          </a:xfrm>
          <a:prstGeom prst="cloudCallout">
            <a:avLst>
              <a:gd name="adj1" fmla="val -3930"/>
              <a:gd name="adj2" fmla="val 106615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voglio salvare questo lucido 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419720" y="1295280"/>
            <a:ext cx="2808000" cy="863640"/>
          </a:xfrm>
          <a:prstGeom prst="cloudCallout">
            <a:avLst>
              <a:gd name="adj1" fmla="val -4833"/>
              <a:gd name="adj2" fmla="val 102754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Devo premere l’icona di salvataggio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09880" y="1066680"/>
            <a:ext cx="3657600" cy="1371600"/>
          </a:xfrm>
          <a:prstGeom prst="cloudCallout">
            <a:avLst>
              <a:gd name="adj1" fmla="val -11027"/>
              <a:gd name="adj2" fmla="val 70944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Devo spostare il puntatore del mouse sopra l’icona e poi premere il tasto sinistro.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320" y="1712880"/>
            <a:ext cx="1222200" cy="649080"/>
            <a:chOff x="76320" y="1712880"/>
            <a:chExt cx="1222200" cy="649080"/>
          </a:xfrm>
        </p:grpSpPr>
        <p:sp>
          <p:nvSpPr>
            <p:cNvPr id="178" name=""/>
            <p:cNvSpPr/>
            <p:nvPr/>
          </p:nvSpPr>
          <p:spPr>
            <a:xfrm>
              <a:off x="76320" y="1942920"/>
              <a:ext cx="576000" cy="217440"/>
            </a:xfrm>
            <a:prstGeom prst="rightArrow">
              <a:avLst>
                <a:gd name="adj1" fmla="val 50000"/>
                <a:gd name="adj2" fmla="val 66225"/>
              </a:avLst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0880" y="1712880"/>
              <a:ext cx="647640" cy="649080"/>
            </a:xfrm>
            <a:prstGeom prst="ellipse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H="1">
            <a:off x="4724280" y="1295280"/>
            <a:ext cx="1905120" cy="685800"/>
          </a:xfrm>
          <a:prstGeom prst="cloudCallout">
            <a:avLst>
              <a:gd name="adj1" fmla="val -16166"/>
              <a:gd name="adj2" fmla="val 148375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L’icona </a:t>
            </a:r>
            <a:r>
              <a:rPr b="0" lang="en-US" sz="1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cambiata</a:t>
            </a: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876200" y="1523880"/>
            <a:ext cx="2160360" cy="503280"/>
          </a:xfrm>
          <a:prstGeom prst="cloudCallout">
            <a:avLst>
              <a:gd name="adj1" fmla="val -2685"/>
              <a:gd name="adj2" fmla="val 181541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Ho salvato! 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343400" y="1219320"/>
            <a:ext cx="2411280" cy="1008000"/>
          </a:xfrm>
          <a:prstGeom prst="cloudCallout">
            <a:avLst>
              <a:gd name="adj1" fmla="val -20837"/>
              <a:gd name="adj2" fmla="val 99287"/>
            </a:avLst>
          </a:prstGeom>
          <a:solidFill>
            <a:srgbClr val="2f27aa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Ho raggiunto il mio obiettivo! 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495680" y="1143000"/>
            <a:ext cx="1944720" cy="863640"/>
          </a:xfrm>
          <a:prstGeom prst="cloudCallout">
            <a:avLst>
              <a:gd name="adj1" fmla="val -28449"/>
              <a:gd name="adj2" fmla="val 132351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Eseguo</a:t>
            </a: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Esempio positivo</a:t>
            </a:r>
            <a:endParaRPr b="0" lang="en-US" sz="3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2F5-7D32-4B1B-910C-8573E1283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Svista (slip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Corretta formulazione dell’obiettiv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Corretta forulazione dell’inten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Azione sbagliat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Sbaglio (mistake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Obiettivo o intenzione sbagliat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Come rimediare?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Svista: migliorare interfacci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Errore: bisogna fornire all’utente una migliore comprensione del sistema; riprogettazione radicale dell’interfaccia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1752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2844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214632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2844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2527200"/>
            <a:ext cx="304920" cy="3049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844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657600"/>
            <a:ext cx="304920" cy="3049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844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9bef2"/>
                </a:solidFill>
                <a:latin typeface="Tahoma"/>
              </a:rPr>
              <a:t>Errori: sviste e sbagl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BB3-9FA7-4384-9C02-E2677A1483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Il modello di Norman serve a mettere in evidenza difficolt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di comunicazione tra utente e sistema+interfaccia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Non analizza la comunicazione tra sistema e interfaccia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Estensione di Abowd e Beale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837-CD44-44CF-AA31-F8C191421C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4637520" y="1600200"/>
            <a:ext cx="3285360" cy="2514600"/>
            <a:chOff x="4637520" y="1600200"/>
            <a:chExt cx="3285360" cy="2514600"/>
          </a:xfrm>
        </p:grpSpPr>
        <p:sp>
          <p:nvSpPr>
            <p:cNvPr id="194" name=""/>
            <p:cNvSpPr/>
            <p:nvPr/>
          </p:nvSpPr>
          <p:spPr>
            <a:xfrm>
              <a:off x="5708520" y="1600200"/>
              <a:ext cx="1143000" cy="2514600"/>
            </a:xfrm>
            <a:prstGeom prst="ellipse">
              <a:avLst/>
            </a:prstGeom>
            <a:noFill/>
            <a:ln w="2844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37520" y="2558880"/>
              <a:ext cx="6242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2e0f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c2e0f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2e0f9"/>
                  </a:solidFill>
                  <a:latin typeface="Arial"/>
                </a:rPr>
                <a:t>core</a:t>
              </a:r>
              <a:endParaRPr b="0" lang="en-US" sz="18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23120" y="2558880"/>
              <a:ext cx="599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2e0f9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c2e0f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2e0f9"/>
                  </a:solidFill>
                  <a:latin typeface="Arial"/>
                </a:rPr>
                <a:t>task</a:t>
              </a:r>
              <a:endParaRPr b="0" lang="en-US" sz="18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63320" y="1752480"/>
              <a:ext cx="8146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2e0f9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c2e0f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2e0f9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5760" y="3200400"/>
              <a:ext cx="6746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2e0f9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c2e0f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2e0f9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175360" y="2133360"/>
              <a:ext cx="838080" cy="53316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46960" y="2133720"/>
              <a:ext cx="838080" cy="53316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75360" y="2971800"/>
              <a:ext cx="838080" cy="53352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546960" y="2971800"/>
              <a:ext cx="838080" cy="53352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Modello di Abowd e Beal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2e0f9"/>
                </a:solidFill>
                <a:latin typeface="Tahoma"/>
              </a:rPr>
              <a:t>Interaction Framework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4 component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Utente (U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Sistema (S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Input (I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Output (O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Ogni componente ha il suo linguaggi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Interazione: traduzione tra linguagg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Problemi di interazione =  problemi di tradu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EEF-41EC-4C42-AA3D-AFE34467D7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676840" y="1371600"/>
            <a:ext cx="1524240" cy="2209680"/>
          </a:xfrm>
          <a:prstGeom prst="ellipse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1523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2e0f9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092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2e0f9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c2e0f9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58280" y="1828800"/>
            <a:ext cx="1257120" cy="1252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887640" y="181620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813200" y="22860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2e0f9"/>
                </a:solidFill>
                <a:latin typeface="Tahoma"/>
              </a:rPr>
              <a:t>Compiti</a:t>
            </a:r>
            <a:endParaRPr b="0" lang="en-US" sz="1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77040" y="2286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2e0f9"/>
                </a:solidFill>
                <a:latin typeface="Tahoma"/>
              </a:rPr>
              <a:t>Base</a:t>
            </a:r>
            <a:endParaRPr b="0" lang="en-US" sz="1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522400">
            <a:off x="7124760" y="300960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2043200">
            <a:off x="7277040" y="18280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9924600">
            <a:off x="5066640" y="18280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341600">
            <a:off x="5067360" y="295920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action framework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Ogni componente ha il suo linguaggio: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Utente: linguaggio del compito (task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Sistema: linguaggio di base (core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Input: linguaggio di input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Output: linguaggio di output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20257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2e0f9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6049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2e0f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857-CEB9-4EBF-A278-B9BE77AB54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676840" y="1371600"/>
            <a:ext cx="1524240" cy="2209680"/>
          </a:xfrm>
          <a:prstGeom prst="ellipse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58280" y="1828800"/>
            <a:ext cx="1257120" cy="1252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887640" y="181620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813200" y="22860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2e0f9"/>
                </a:solidFill>
                <a:latin typeface="Tahoma"/>
              </a:rPr>
              <a:t>Compiti</a:t>
            </a:r>
            <a:endParaRPr b="0" lang="en-US" sz="1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7040" y="2286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2e0f9"/>
                </a:solidFill>
                <a:latin typeface="Tahoma"/>
              </a:rPr>
              <a:t>Base</a:t>
            </a:r>
            <a:endParaRPr b="0" lang="en-US" sz="1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0522400">
            <a:off x="7124760" y="300960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2043200">
            <a:off x="7277040" y="18280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9924600">
            <a:off x="5066640" y="18280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341600">
            <a:off x="5067360" y="295920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action framework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’utente ha un obiettivo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tradotto in azioni attraverso l’input dell’interfaccia  (articolazione)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tradotto in operazioni sul sistema, che cambia stato (prestazione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tradotto nell’output dell’interfaccia (presentazione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nterpretato dall’utente (osservazione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608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2e0f9"/>
                </a:solidFill>
                <a:latin typeface="Tahoma"/>
              </a:rPr>
              <a:t>Articola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12952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2e0f9"/>
                </a:solidFill>
                <a:latin typeface="Tahoma"/>
              </a:rPr>
              <a:t>Osserva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10280" y="129528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2e0f9"/>
                </a:solidFill>
                <a:latin typeface="Tahoma"/>
              </a:rPr>
              <a:t>Presenta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32767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2e0f9"/>
                </a:solidFill>
                <a:latin typeface="Tahoma"/>
              </a:rPr>
              <a:t>Presta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76840" y="1371600"/>
            <a:ext cx="1524240" cy="2209680"/>
          </a:xfrm>
          <a:prstGeom prst="ellipse">
            <a:avLst/>
          </a:prstGeom>
          <a:solidFill>
            <a:srgbClr val="00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1523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2e0f9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092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2e0f9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19920" y="20257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2e0f9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6049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2e0f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4F16-A140-4119-886C-CE96A5664B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Sommario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odelli dell’interazion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odello di Norman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odello di Abowd e Beal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Stili di interazion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odelli concettual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Paradigm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2C3-E07B-48D9-B649-384186886C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0" y="4762440"/>
          <a:ext cx="481968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440"/>
                    <a:ext cx="48196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311640" y="1066680"/>
          <a:ext cx="583236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1640" y="1066680"/>
                    <a:ext cx="58323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666880" y="3218040"/>
            <a:ext cx="3353040" cy="1766880"/>
            <a:chOff x="2666880" y="3218040"/>
            <a:chExt cx="3353040" cy="1766880"/>
          </a:xfrm>
        </p:grpSpPr>
        <p:sp>
          <p:nvSpPr>
            <p:cNvPr id="245" name=""/>
            <p:cNvSpPr/>
            <p:nvPr/>
          </p:nvSpPr>
          <p:spPr>
            <a:xfrm>
              <a:off x="3808440" y="3268800"/>
              <a:ext cx="971640" cy="1458720"/>
            </a:xfrm>
            <a:prstGeom prst="ellipse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5072040" y="3570120"/>
              <a:ext cx="80172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2666880" y="3562200"/>
              <a:ext cx="849600" cy="9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rot="20522400">
              <a:off x="4732200" y="4350960"/>
              <a:ext cx="389160" cy="200160"/>
            </a:xfrm>
            <a:custGeom>
              <a:avLst/>
              <a:gdLst>
                <a:gd name="textAreaLeft" fmla="*/ 60840 w 389160"/>
                <a:gd name="textAreaRight" fmla="*/ 340560 w 389160"/>
                <a:gd name="textAreaTop" fmla="*/ 50040 h 200160"/>
                <a:gd name="textAreaBottom" fmla="*/ 150120 h 20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2043200">
              <a:off x="4828680" y="3569400"/>
              <a:ext cx="389160" cy="201960"/>
            </a:xfrm>
            <a:custGeom>
              <a:avLst/>
              <a:gdLst>
                <a:gd name="textAreaLeft" fmla="*/ 60840 w 389160"/>
                <a:gd name="textAreaRight" fmla="*/ 340560 w 389160"/>
                <a:gd name="textAreaTop" fmla="*/ 50400 h 201960"/>
                <a:gd name="textAreaBottom" fmla="*/ 151560 h 2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9924600">
              <a:off x="3419280" y="3569760"/>
              <a:ext cx="388800" cy="201960"/>
            </a:xfrm>
            <a:custGeom>
              <a:avLst/>
              <a:gdLst>
                <a:gd name="textAreaLeft" fmla="*/ 60480 w 388800"/>
                <a:gd name="textAreaRight" fmla="*/ 340200 w 388800"/>
                <a:gd name="textAreaTop" fmla="*/ 50400 h 201960"/>
                <a:gd name="textAreaBottom" fmla="*/ 151560 h 2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341600">
              <a:off x="3419280" y="4316400"/>
              <a:ext cx="388800" cy="201600"/>
            </a:xfrm>
            <a:custGeom>
              <a:avLst/>
              <a:gdLst>
                <a:gd name="textAreaLeft" fmla="*/ 60480 w 388800"/>
                <a:gd name="textAreaRight" fmla="*/ 340200 w 388800"/>
                <a:gd name="textAreaTop" fmla="*/ 50400 h 201600"/>
                <a:gd name="textAreaBottom" fmla="*/ 15120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63720" y="4516560"/>
              <a:ext cx="111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c2e0f9"/>
                  </a:solidFill>
                  <a:latin typeface="Tahoma"/>
                </a:rPr>
                <a:t>Articolazione</a:t>
              </a:r>
              <a:endParaRPr b="0" lang="en-US" sz="12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63720" y="3218040"/>
              <a:ext cx="111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c2e0f9"/>
                  </a:solidFill>
                  <a:latin typeface="Tahoma"/>
                </a:rPr>
                <a:t>Osservazione</a:t>
              </a:r>
              <a:endParaRPr b="0" lang="en-US" sz="12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59480" y="3218040"/>
              <a:ext cx="111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c2e0f9"/>
                  </a:solidFill>
                  <a:latin typeface="Tahoma"/>
                </a:rPr>
                <a:t>Presentazione</a:t>
              </a:r>
              <a:endParaRPr b="0" lang="en-US" sz="12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02120" y="4525920"/>
              <a:ext cx="1117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200" spc="-1" strike="noStrike">
                  <a:solidFill>
                    <a:srgbClr val="c2e0f9"/>
                  </a:solidFill>
                  <a:latin typeface="Tahoma"/>
                </a:rPr>
                <a:t>Prestazione</a:t>
              </a:r>
              <a:endParaRPr b="0" lang="en-US" sz="12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8440" y="3268800"/>
              <a:ext cx="971640" cy="1458720"/>
            </a:xfrm>
            <a:prstGeom prst="ellipse">
              <a:avLst/>
            </a:prstGeom>
            <a:solidFill>
              <a:srgbClr val="00cc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24160" y="3368520"/>
              <a:ext cx="53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c2e0f9"/>
                  </a:solidFill>
                  <a:latin typeface="Tahoma"/>
                </a:rPr>
                <a:t>O</a:t>
              </a:r>
              <a:endParaRPr b="0" lang="en-US" sz="16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3480" y="4329000"/>
              <a:ext cx="53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c2e0f9"/>
                  </a:solidFill>
                  <a:latin typeface="Tahoma"/>
                </a:rPr>
                <a:t>I</a:t>
              </a:r>
              <a:endParaRPr b="0" lang="en-US" sz="16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3238560"/>
            <a:ext cx="2133720" cy="1143000"/>
          </a:xfrm>
          <a:prstGeom prst="cloudCallout">
            <a:avLst>
              <a:gd name="adj1" fmla="val 97245"/>
              <a:gd name="adj2" fmla="val -10416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2e0f9"/>
                </a:solidFill>
                <a:latin typeface="Tahoma"/>
              </a:rPr>
              <a:t>Voglio cercare mappe</a:t>
            </a:r>
            <a:endParaRPr b="0" lang="en-US" sz="1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2e0f9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c2e0f9"/>
                </a:solidFill>
                <a:latin typeface="Tahoma"/>
              </a:rPr>
              <a:t>di Los Angeles</a:t>
            </a:r>
            <a:endParaRPr b="0" lang="en-US" sz="1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876920"/>
            <a:ext cx="3809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http://www.google.com/search?client=safari&amp;rls=it-it&amp;q=mappe+di+Los+Angeles&amp;ie=UTF-8&amp;oe=UTF-8</a:t>
            </a:r>
            <a:endParaRPr b="0" lang="en-US" sz="12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523880"/>
            <a:ext cx="2133360" cy="1143000"/>
          </a:xfrm>
          <a:prstGeom prst="cloudCallout">
            <a:avLst>
              <a:gd name="adj1" fmla="val 56175"/>
              <a:gd name="adj2" fmla="val 94444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2e0f9"/>
                </a:solidFill>
                <a:latin typeface="Tahoma"/>
              </a:rPr>
              <a:t>Maps of Los Angeles</a:t>
            </a:r>
            <a:endParaRPr b="0" lang="en-US" sz="1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2e0f9"/>
                </a:solidFill>
                <a:latin typeface="Tahoma"/>
              </a:rPr>
              <a:t>Flybird.com ….</a:t>
            </a:r>
            <a:endParaRPr b="0" lang="en-US" sz="1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Esempio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879-C566-4525-8926-C57F088F6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Il modello di </a:t>
            </a: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Abowd &amp; Beal fornisce una cornice generale per 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er la comprensione dell’interazione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non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 ristretto ai sistemi computerizzat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dentifica i maggiori componenti coinvolti nell’intera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ermette valutazioni comparative dei sistem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un’astra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reg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considera il punto di vista del progettist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ifett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a divisione tra input ed output risulta artificios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C12-741A-4364-A7CF-8785DDFE60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a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Paradigm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articolare filosofia o modo di pensare l’interazion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odelli concettual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escrizione del sistema in termini di idee e concetti integrati sul suo funzionamento, comportamento e modo di presentarsi (es. metafora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Stil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odalità  concreta attraverso la quali l'utente può comunicare o interagire con il sistem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14440" y="1752480"/>
            <a:ext cx="838080" cy="3429000"/>
          </a:xfrm>
          <a:prstGeom prst="upArrow">
            <a:avLst>
              <a:gd name="adj1" fmla="val 50000"/>
              <a:gd name="adj2" fmla="val 102287"/>
            </a:avLst>
          </a:pr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-440640" y="2875320"/>
            <a:ext cx="27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strazione</a:t>
            </a:r>
            <a:endParaRPr b="0" lang="en-US" sz="2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666880"/>
            <a:ext cx="7162920" cy="1981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2e0f9"/>
                </a:solidFill>
                <a:latin typeface="Times New Roman"/>
              </a:rPr>
              <a:t>_x000c_</a:t>
            </a:r>
            <a:endParaRPr b="0" lang="en-US" sz="32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520-6ABE-426C-8781-673A8106E4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Modelli concettuali di intera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Basati sull’attivit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Basati sull’oggetto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Metafor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3C6-AEC3-4F3E-827D-C3C14C61C0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odello concettual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escrizione del sistema in termini di idee e concetti integrati sul suo funzionamento, comportamento e modo di presentarsi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’elenco dei modelli non 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esaustivo, nè i modelli sono tra loro mutuamente esclusiv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FBC-CD15-4DAD-808B-D294455283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230720" y="379728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343400" y="2133720"/>
            <a:ext cx="2362320" cy="1143000"/>
          </a:xfrm>
          <a:prstGeom prst="cloudCallout">
            <a:avLst>
              <a:gd name="adj1" fmla="val -14046"/>
              <a:gd name="adj2" fmla="val 90277"/>
            </a:avLst>
          </a:pr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odello 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ell’utente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1473120"/>
            <a:ext cx="2361960" cy="1143000"/>
          </a:xfrm>
          <a:prstGeom prst="cloudCallout">
            <a:avLst>
              <a:gd name="adj1" fmla="val 20027"/>
              <a:gd name="adj2" fmla="val 84861"/>
            </a:avLst>
          </a:pr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odello 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el progettista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5410080"/>
            <a:ext cx="2590920" cy="1371600"/>
          </a:xfrm>
          <a:prstGeom prst="cloudCallout">
            <a:avLst>
              <a:gd name="adj1" fmla="val -5328"/>
              <a:gd name="adj2" fmla="val -71412"/>
            </a:avLst>
          </a:pr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odello 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i operazione 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el sistema</a:t>
            </a: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Tre modelli concettual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quello del progettist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quello implementato dal sistem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quello che si forma l’uten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… 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devono coincidere!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Altrimenti vi sono problemi nell’interazion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7434360" y="3276720"/>
            <a:ext cx="155736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42F-B901-49E8-8D77-7CB673AB32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Modelli basati sull’attivit</a:t>
            </a:r>
            <a:r>
              <a:rPr b="0" lang="it-IT" sz="3600" spc="-1" strike="noStrike">
                <a:solidFill>
                  <a:srgbClr val="69bef2"/>
                </a:solidFill>
                <a:latin typeface="Tahoma"/>
                <a:ea typeface="ＭＳ Ｐゴシック"/>
              </a:rPr>
              <a:t>à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Fornire istruzioni (comandi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Utente fornisce istruzioni al sistema su cosa far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Es. Videoregistratore, HiFi, computer Unix o DOS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Conversar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l sistema si comporta come un interlocutore di una conversa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Es. Sistemi di prenotazione telefonica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anipolare e navigare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Manipolazione di oggetti virtuali e navigazione in spazi virtuali --&gt; manipolazione dirett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Esplorare e sfogliar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’utente pu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ò esplorare e sfogliare l’informazione come una rivista o un libro (--&gt; ipertesto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7CC-7E41-4275-BC94-CD97A3933E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Manipolazione diretta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Gli oggetti di interesse sono rappresentati nella UI (es. i file) e l’utente li manipola (compie azioni su di essi) in modo diretto (trascino con il mouse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Principi (Schneiderman 1982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Visibilit</a:t>
            </a:r>
            <a:r>
              <a:rPr b="0" lang="en-US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</a:t>
            </a: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 dell’oggetto di interess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Azioni incremental, reversibili, con feedback immediat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Sostituzione di comandi dalla sintassi complicata con azion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50B-077D-4F0F-941A-1AF0EB9B4A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Manipolazione diretta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Vantagg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Facile da apprender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Evita error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Incoraggia esplora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Punta sul riconoscimento  (invece che ricordo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S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Gli utenti esperti possono preferire metodi pi</a:t>
            </a:r>
            <a:r>
              <a:rPr b="0" lang="en-US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ù snell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Non tutte le operazione si possono rendere in termini di manipolaione di oggetti</a:t>
            </a:r>
            <a:r>
              <a:rPr b="0" lang="en-US" sz="1800" spc="-1" strike="noStrike">
                <a:solidFill>
                  <a:srgbClr val="c2e0f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DB3-196B-425A-B883-7BF5A06F79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5181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Ufficio – manipolazione dirett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L’utente interagisce con un mondo artificial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440" y="3580920"/>
            <a:ext cx="5715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2e0f9"/>
                </a:solidFill>
                <a:latin typeface="Tahoma"/>
              </a:rPr>
              <a:t>Industria – manipolazione indirett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L’Utente interagisce con il mondo reale</a:t>
            </a:r>
            <a:br>
              <a:rPr sz="2000"/>
            </a:b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attraverso l’interfacci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Problemi: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2e0f9"/>
                </a:solidFill>
                <a:latin typeface="Tahoma"/>
              </a:rPr>
              <a:t>Feedback, ritardi</a:t>
            </a:r>
            <a:endParaRPr b="0" lang="en-US" sz="1800" spc="-1" strike="noStrike">
              <a:solidFill>
                <a:srgbClr val="c2e0f9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257800" y="2514600"/>
            <a:ext cx="3580920" cy="838080"/>
            <a:chOff x="5257800" y="2514600"/>
            <a:chExt cx="3580920" cy="838080"/>
          </a:xfrm>
        </p:grpSpPr>
        <p:sp>
          <p:nvSpPr>
            <p:cNvPr id="293" name=""/>
            <p:cNvSpPr/>
            <p:nvPr/>
          </p:nvSpPr>
          <p:spPr>
            <a:xfrm>
              <a:off x="7467480" y="2514600"/>
              <a:ext cx="1371240" cy="83808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2e0f9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57800" y="2514600"/>
              <a:ext cx="838080" cy="8380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2844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160" y="2743200"/>
              <a:ext cx="1066320" cy="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71480" y="3048120"/>
              <a:ext cx="1066680" cy="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57600" y="4800600"/>
            <a:ext cx="5181480" cy="1676520"/>
            <a:chOff x="3657600" y="4800600"/>
            <a:chExt cx="5181480" cy="1676520"/>
          </a:xfrm>
        </p:grpSpPr>
        <p:sp>
          <p:nvSpPr>
            <p:cNvPr id="298" name=""/>
            <p:cNvSpPr/>
            <p:nvPr/>
          </p:nvSpPr>
          <p:spPr>
            <a:xfrm>
              <a:off x="3657600" y="5257800"/>
              <a:ext cx="838080" cy="8384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2844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24680" y="4800600"/>
              <a:ext cx="914400" cy="1676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43600" y="4800600"/>
              <a:ext cx="1218960" cy="1676520"/>
            </a:xfrm>
            <a:custGeom>
              <a:avLst/>
              <a:gdLst>
                <a:gd name="textAreaLeft" fmla="*/ 36000 w 1218960"/>
                <a:gd name="textAreaRight" fmla="*/ 1182960 w 1218960"/>
                <a:gd name="textAreaTop" fmla="*/ 36000 h 1676520"/>
                <a:gd name="textAreaBottom" fmla="*/ 1640520 h 1676520"/>
              </a:gdLst>
              <a:ahLst/>
              <a:rect l="textAreaLeft" t="textAreaTop" r="textAreaRight" b="textAreaBottom"/>
              <a:pathLst>
                <a:path w="21600" h="29706">
                  <a:moveTo>
                    <a:pt x="2194" y="0"/>
                  </a:moveTo>
                  <a:arcTo wR="2194" hR="2194" stAng="16200000" swAng="-5400000"/>
                  <a:lnTo>
                    <a:pt x="0" y="27512"/>
                  </a:lnTo>
                  <a:arcTo wR="2194" hR="2194" stAng="10800000" swAng="-5400000"/>
                  <a:lnTo>
                    <a:pt x="19406" y="29706"/>
                  </a:lnTo>
                  <a:arcTo wR="2194" hR="2194" stAng="5400000" swAng="-5400000"/>
                  <a:lnTo>
                    <a:pt x="21600" y="2194"/>
                  </a:lnTo>
                  <a:arcTo wR="2194" hR="2194" stAng="0" swAng="-5400000"/>
                  <a:close/>
                </a:path>
              </a:pathLst>
            </a:custGeom>
            <a:solidFill>
              <a:srgbClr val="00cc99"/>
            </a:solidFill>
            <a:ln w="2844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21720" y="483732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c2e0f9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638680" y="5105520"/>
              <a:ext cx="533520" cy="762120"/>
              <a:chOff x="5638680" y="5105520"/>
              <a:chExt cx="533520" cy="762120"/>
            </a:xfrm>
          </p:grpSpPr>
          <p:sp>
            <p:nvSpPr>
              <p:cNvPr id="303" name=""/>
              <p:cNvSpPr/>
              <p:nvPr/>
            </p:nvSpPr>
            <p:spPr>
              <a:xfrm>
                <a:off x="5715000" y="525816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262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2e0f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38680" y="5181840"/>
                <a:ext cx="304920" cy="609480"/>
              </a:xfrm>
              <a:prstGeom prst="rect">
                <a:avLst/>
              </a:prstGeom>
              <a:solidFill>
                <a:srgbClr val="2f27aa"/>
              </a:solidFill>
              <a:ln w="9360">
                <a:solidFill>
                  <a:srgbClr val="2f27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2e0f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43600" y="5105520"/>
                <a:ext cx="0" cy="762120"/>
              </a:xfrm>
              <a:prstGeom prst="line">
                <a:avLst/>
              </a:prstGeom>
              <a:ln w="28440">
                <a:solidFill>
                  <a:srgbClr val="c2e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2e0f9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284960" y="5105520"/>
              <a:ext cx="1096920" cy="1219320"/>
              <a:chOff x="7284960" y="5105520"/>
              <a:chExt cx="1096920" cy="1219320"/>
            </a:xfrm>
          </p:grpSpPr>
          <p:sp>
            <p:nvSpPr>
              <p:cNvPr id="307" name=""/>
              <p:cNvSpPr/>
              <p:nvPr/>
            </p:nvSpPr>
            <p:spPr>
              <a:xfrm>
                <a:off x="7467480" y="5257800"/>
                <a:ext cx="914400" cy="91440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2624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2e0f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284960" y="5180040"/>
                <a:ext cx="641160" cy="1068480"/>
              </a:xfrm>
              <a:prstGeom prst="rect">
                <a:avLst/>
              </a:prstGeom>
              <a:solidFill>
                <a:srgbClr val="2f27aa"/>
              </a:solidFill>
              <a:ln w="9360">
                <a:solidFill>
                  <a:srgbClr val="2f27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2e0f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926120" y="5105520"/>
                <a:ext cx="0" cy="1219320"/>
              </a:xfrm>
              <a:prstGeom prst="line">
                <a:avLst/>
              </a:prstGeom>
              <a:ln w="28440">
                <a:solidFill>
                  <a:srgbClr val="c2e0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2e0f9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724280" y="5257800"/>
              <a:ext cx="1219320" cy="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647600" y="5715000"/>
              <a:ext cx="1295640" cy="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647600" y="6172200"/>
              <a:ext cx="1295640" cy="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62560" y="5257800"/>
              <a:ext cx="762120" cy="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162200" y="6172200"/>
              <a:ext cx="762120" cy="0"/>
            </a:xfrm>
            <a:prstGeom prst="line">
              <a:avLst/>
            </a:prstGeom>
            <a:ln w="38160">
              <a:solidFill>
                <a:srgbClr val="2624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03160" y="48229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c2e0f9"/>
                  </a:solidFill>
                  <a:latin typeface="Arial"/>
                </a:rPr>
                <a:t>plant</a:t>
              </a:r>
              <a:endParaRPr b="0" lang="en-US" sz="16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3600" y="5257800"/>
              <a:ext cx="1218960" cy="0"/>
            </a:xfrm>
            <a:prstGeom prst="line">
              <a:avLst/>
            </a:prstGeom>
            <a:ln w="38160">
              <a:solidFill>
                <a:srgbClr val="26246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43600" y="6172200"/>
              <a:ext cx="1218960" cy="0"/>
            </a:xfrm>
            <a:prstGeom prst="line">
              <a:avLst/>
            </a:prstGeom>
            <a:ln w="38160">
              <a:solidFill>
                <a:srgbClr val="26246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65400" y="5410440"/>
              <a:ext cx="100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2e0f9"/>
                  </a:solidFill>
                  <a:latin typeface="Arial"/>
                </a:rPr>
                <a:t>immediate</a:t>
              </a:r>
              <a:endParaRPr b="0" lang="en-US" sz="12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14720" y="57150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2e0f9"/>
                  </a:solidFill>
                  <a:latin typeface="Arial"/>
                </a:rPr>
                <a:t>feedback</a:t>
              </a:r>
              <a:endParaRPr b="0" lang="en-US" sz="12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6120" y="6195960"/>
              <a:ext cx="97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c2e0f9"/>
                  </a:solidFill>
                  <a:latin typeface="Arial"/>
                </a:rPr>
                <a:t>instruments</a:t>
              </a:r>
              <a:endParaRPr b="0" lang="en-US" sz="12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84C-8DC0-4F3A-9F4C-0A06CCE530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Modelli per l’intera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Terminologia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odello di Normal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odello di Abowd &amp; Beal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7FF-0A83-47A3-A951-EBEBA62B60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38560" cy="25146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pertesto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A metà degli anni </a:t>
            </a: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‘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60 Ted Nelson</a:t>
            </a:r>
            <a:br>
              <a:rPr sz="2400"/>
            </a:b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conia il termine ipertest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ettura lineare vs lettura </a:t>
            </a:r>
            <a:br>
              <a:rPr sz="2400"/>
            </a:b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non lineare (collegamenti associativi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'ipertesto 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un insieme di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testi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o pagine leggibili con l'ausilio di un'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interfaccia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elettronica, in maniera non sequenziale, per tramite di particolari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parole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chiamate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collegamenti ipertestuali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(hyperlink o rimandi), che costituiscono un rete raggiata o variamente incrociata di informazioni, organizzate secondo diversi criteri, ad esempio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paritetici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 o gerarchici, in modo da costituire vari percorsi di lettura alternativi. [Wikipedia]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B88-1E14-4212-814A-10A7F6F8FC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Modelli basati su oggett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odulo da riempire: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’interfaccia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</a:t>
            </a:r>
            <a:r>
              <a:rPr b="0" lang="it-IT" sz="2000" spc="-1" strike="noStrike">
                <a:solidFill>
                  <a:srgbClr val="c2e0f9"/>
                </a:solidFill>
                <a:latin typeface="ヒラギノ角ゴ Pro W3"/>
              </a:rPr>
              <a:t>_x0010_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un modulo che l’utente deve compilar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Agente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’interfaccia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un agente che esegue compiti stabiliti dall’utent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Esempi: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2e0f9"/>
                </a:solidFill>
                <a:latin typeface="Tahoma"/>
              </a:rPr>
              <a:t>Filtro anti-spam</a:t>
            </a:r>
            <a:endParaRPr b="0" lang="en-US" sz="18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2e0f9"/>
                </a:solidFill>
                <a:latin typeface="Tahoma"/>
              </a:rPr>
              <a:t>Assistente di Office</a:t>
            </a:r>
            <a:endParaRPr b="0" lang="en-US" sz="18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2e0f9"/>
                </a:solidFill>
                <a:latin typeface="Tahoma"/>
              </a:rPr>
              <a:t>Wizards</a:t>
            </a:r>
            <a:endParaRPr b="0" lang="en-US" sz="18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2e0f9"/>
                </a:solidFill>
                <a:latin typeface="Tahoma"/>
              </a:rPr>
              <a:t>…</a:t>
            </a:r>
            <a:r>
              <a:rPr b="0" lang="it-IT" sz="1800" spc="-1" strike="noStrike">
                <a:solidFill>
                  <a:srgbClr val="c2e0f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9B7-DA66-45AD-B605-E23FB579BC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ie basate su agent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Caratteristiche dei compiti adatti per agenti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2e0f9"/>
                </a:solidFill>
                <a:uFillTx/>
                <a:latin typeface="Tahoma"/>
              </a:rPr>
              <a:t>Adattamento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: il compito richiede adattabilit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, come apprendere ad evitare errori ed adattarsi alle preferenze dell’utente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2e0f9"/>
                </a:solidFill>
                <a:uFillTx/>
                <a:latin typeface="Tahoma"/>
                <a:ea typeface="ＭＳ Ｐゴシック"/>
              </a:rPr>
              <a:t>Ricerca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: il compito non è ben definito e dunque il software deve tentare varie opzion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2e0f9"/>
                </a:solidFill>
                <a:uFillTx/>
                <a:latin typeface="Tahoma"/>
                <a:ea typeface="ＭＳ Ｐゴシック"/>
              </a:rPr>
              <a:t>Dimostrazione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: il compito comporta l’insegnamento su come fare qualcos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2e0f9"/>
                </a:solidFill>
                <a:uFillTx/>
                <a:latin typeface="Tahoma"/>
                <a:ea typeface="ＭＳ Ｐゴシック"/>
              </a:rPr>
              <a:t>Guida: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 il compito richiede co-operazione tra umano e agente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2e0f9"/>
                </a:solidFill>
                <a:uFillTx/>
                <a:latin typeface="Tahoma"/>
                <a:ea typeface="ＭＳ Ｐゴシック"/>
              </a:rPr>
              <a:t>Autonomia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: il task richiede di essere seguito, ma non richiede input dall’utente, per cui ha senso delegare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c2e0f9"/>
                </a:solidFill>
                <a:uFillTx/>
                <a:latin typeface="Tahoma"/>
              </a:rPr>
              <a:t>Asincronia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: il compito presenta un ritardo significativo tra il suo inizio e la fine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63244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2e0f9"/>
                </a:solidFill>
                <a:latin typeface="Times New Roman"/>
              </a:rPr>
              <a:t>Beale &amp; Wood 1994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BDF-61E6-4BC5-92C5-3DA0568861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Metafor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’essenza della metafora 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comprendere ed avere esperienza di  una cosa in termini di un’altra.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e metafore producono modelli concettuali (basati sull’attivit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o sull’oggetto o altro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Alcuni dei precedenti derivano da metafore (p. es. scrivania, modulo cartaceo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Le metafore forniscono all’utente analogie (aiutano il </a:t>
            </a:r>
            <a:r>
              <a:rPr b="0" i="1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problem solving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Le metafore rendono l’interfaccia familiare e facilitano l’apprendiment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a metafora pu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ò essere fuorviante: gli utenti potrebbero prendere la metafora alla lettera e farsi un modello concettuale sbagliato del sistem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8A5-0627-4363-9038-C5487DAEE7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La metafora della scrivania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il video “è” la scrivania dell’utent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documenti, cartell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0f9"/>
                </a:solidFill>
                <a:latin typeface="Tahoma"/>
              </a:rPr>
              <a:t>disordin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302680" y="2271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84D-D77C-42F4-8888-EB8B3E7D10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Critiche all’uso di metafor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Comporta sempre delle forzature (il cestino non 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sopra la scrivania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Limitano le funzioni che potrebbero, in principio, essere utili nell’interfacci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La metafore può entrare in conflitto con principi di progetto (v. più avanti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Incapcità di comprendere il funzionamento del sistema oltre alla metafor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Rischio di ispirarsi ad oggetti fisici progettati male, ovvero poco usabili (es. calcolatrice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Limita l’immaginazione del progettista nell’escogitare nuovi modelli concettuali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529-D970-46BF-92E7-87F7328552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a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Paradigm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articolare filosofia o modo di pensare l’interazion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odelli concettual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Descrizione del sistema in termini di idee e concetti integrati sul suo funzionamento, comportamento e modo di presentarsi (es. metafora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Stil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odalità  concreta attraverso la quali l'utente può comunicare o interagire con il sistem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471600" y="1752480"/>
            <a:ext cx="838080" cy="3429000"/>
          </a:xfrm>
          <a:prstGeom prst="upArrow">
            <a:avLst>
              <a:gd name="adj1" fmla="val 50000"/>
              <a:gd name="adj2" fmla="val 102287"/>
            </a:avLst>
          </a:pr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-470160" y="2905920"/>
            <a:ext cx="27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strazione</a:t>
            </a:r>
            <a:endParaRPr b="0" lang="en-US" sz="28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95280" y="4667400"/>
            <a:ext cx="7162920" cy="1600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BE4-67F9-462B-A7B1-F763371A6E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Stili di intera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Comand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Selezione menu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Riempimento modul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WIMP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896-8214-4FCD-82F7-4351904799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Stili di intera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ono le modalità concrete attraverso le quali l'utente può comunicare o interagire con il sistema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nterfaccia a linea di comando (fornire istruzioni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nterrogazione (fornire istruzioni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elezione in un menu (fornire istruzioni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omanda/risposta  (dialogare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Compilazione di moduli (modulo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ogli elettronico (modulo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oint &amp; click (esplorare e sfogliare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WIMP (manipolazione diretta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Tridimensionali (manipolazione diretta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Multimodale (metafore specifiche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C95-90D3-4E84-B5C6-8772A9392E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Gli stili di interazione si possono inquadrare in uno (o più) modelli concettuali visti in precedenza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Tutti questi stili non sono fra loro mutuamente esclusivi ma possono essere combinati a seconda delle applicazioni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Lo stile più adatto dipende anche dal profilo dell’utente e del compito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9E2-16AB-4501-8D8B-1057446354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a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Ingredienti base: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L’uten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La macchin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Interazione:  ogni comunicazione</a:t>
            </a:r>
            <a:br>
              <a:rPr sz="2400"/>
            </a:b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tra utente e computer, diretta o indiretta.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La comunicazione avviene attraverso l’interfaccia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Poich</a:t>
            </a:r>
            <a:r>
              <a:rPr b="0" lang="en-US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la comunicazione possa avere successo, l’interfaccia deve tradurre i concetti dell’utente in quelli della sistema (macchina)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400800" y="1219320"/>
            <a:ext cx="2590920" cy="1600200"/>
            <a:chOff x="6400800" y="1219320"/>
            <a:chExt cx="2590920" cy="16002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6400800" y="1219320"/>
              <a:ext cx="14385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7633440" y="1400760"/>
              <a:ext cx="1358280" cy="137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1AE-342B-437F-B0E5-FE6A0E431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ia a linea di comando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6320" y="11620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2FE-E662-4346-9F36-65B20DBDB30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ia a linea di comando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Comunica istruzioni direttamente al computer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Parole chiave, combinazioni di tasti 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datto per compiti ripetitivi e utenti esperti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ccesso diretto alle funzionalit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del sistema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Si basa sul ricordo 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Elevato sforzo cognitivo per l’utent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905-6F6A-4853-BAF0-5203BBFA6B3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ia a linea di comando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lessibil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niziativa di dialogo all’uten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iace agli utenti esperti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upporta la creazione di script o macr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emette l’interazione con computer remoti anche con rete lenta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ifficile da ricordar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ifficile da imparar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Errori di battitur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Cambiamento di stato non visibile      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nadatto a non espert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7A9-6101-4185-8C17-AE2D2845CC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e di interrogazione (query)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’utente deve specificare una interrogazione (query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ono usate principalmente nelle basi di dati e nei sistemi di recupero delle informazioni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a query viene espressa in un lingiaggio di interrogazioneI (e.g. SQL)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Richiede la conoscenza della struttura del database e della sintassi del linguaggio di interrogazion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ono adatte per utenti espert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1F2-B836-44DF-A064-5394F03C5F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Menu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'interazione avviene mediante selezione, da parte dell'utente, di una o più opzioni tra l’elenco di quelle visualizzate.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e opzioni sono visibili: si basa più sul riconoscimento che sul ricordo (minor sforzo cognitivo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u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ò essere di solo testo oppure grafico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La scelta può avvenire per mezzo di numeri, lettere, tasti cursore  o del mous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er risparmiare spazio spesso sono organizzati per raggruppamenti gerarchic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Adatto ad utenti con bassa conoscenza del sistema, ed a compiti strutturati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4C0-0D1A-4EAB-A8B1-3C18697F46B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Menu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deale per i novizi o utenti occasional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Incoraggia l’esplora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Mostra tutte le funzionalità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Non richiede abilità di battitur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Occupa spazio video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Troppi menu fanno confusione, sovraccarico informativo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Non adatto a compiti ripetitiv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B13-B1B4-4390-9374-D7F96E37BD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Domanda/Risposta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L'interazione avviene attraverso risposte fornite dall'utente a domande formulate dal sistema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datto a sistemi con funzionalit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à ristrette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datto ad utenti con poca esperienza del compito e scarsa del sistema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3B0-C1D0-45E5-AF8C-FD3C18208C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Domanda/Risposta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acile da imparar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emplice da usar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niziativa di dialogo del sistem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oca flessibilità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imitata potenz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A82-EBFF-43FD-BF79-92D6CEE336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Compilazione di modul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L'interazione avviene mediante compilazione, da parte dell'utente, di moduli simili ai documenti cartacei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datte per compiti d’ufficio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inseririmento dat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er recupero dell’informazione (es. Biblioteca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Stile familiare anche ad utenti inesperti grazie alla metafora del modulo cartaceo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53C-1BD2-4030-B763-7BFBF035B2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Compilazione di moduli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acile da apprender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oco carico cognitivo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acilita l’inserimento dati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Aggiornamento visibil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Richiede abilità di battitur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oco flessibil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2F1-60D0-46F3-8E47-9669827797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Terminologia dell’interazione 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’utente usa il sistema interattivo per  raggiungere i suoi </a:t>
            </a:r>
            <a:r>
              <a:rPr b="0" lang="it-IT" sz="2400" spc="-1" strike="noStrike" u="sng">
                <a:solidFill>
                  <a:srgbClr val="c2e0f9"/>
                </a:solidFill>
                <a:uFillTx/>
                <a:latin typeface="Tahoma"/>
              </a:rPr>
              <a:t>obiettivi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, nell’ambito di un certo </a:t>
            </a:r>
            <a:r>
              <a:rPr b="0" lang="it-IT" sz="2400" spc="-1" strike="noStrike" u="sng">
                <a:solidFill>
                  <a:srgbClr val="c2e0f9"/>
                </a:solidFill>
                <a:uFillTx/>
                <a:latin typeface="Tahoma"/>
              </a:rPr>
              <a:t>dominio applicativo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Obiettivo: quello che l’utente vuole raggiungere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Dominio: area applicativa oggetto dello studio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2e0f9"/>
                </a:solidFill>
                <a:latin typeface="Tahoma"/>
              </a:rPr>
              <a:t>descrive concetti, competenze e conoscenz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Intenzione: sequenza di azioni generiche che portano al raggiungimento dell’obiettiv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Compito o azione: traduzione dell’intenzione in azioni specifich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C8E-5356-40E6-9DF9-01B521CC1E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Foglio elettronico  (spreadsheet)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'interazione avviene tramite inserimento dati, da parte dell'utente, in una griglia di celle predefinita.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Variante sofisticata della compilazione di modul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programmabil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Le celle possono contenere valori o formul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Le formule fanno riferimento a valori contenuti in altre cell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Quando un dato viene modificato dall’utente, automaticamente si modificano tutti quelli che dipendono da questo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Ogni cella può essere un input o un output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Adatto ad utenti con sufficiente conoscenza sia del compito che del sistema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385-41F6-43FA-A34C-2E8CA265347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Point &amp; click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L’utente deve semplicemente “cliccare” su l’elemento di interesse: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Icon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Hyperlink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Locazione su una mapp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Si usa in 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Applicazioni multimediali e/o ipertestuali (eg. web browser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Biglietterie automatiche o punti di informazion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La digitazione 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ridotta al minimo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4C7-8FFC-43FF-B716-0B4E3AB990D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ia WIMP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238480" y="1828800"/>
            <a:ext cx="4543200" cy="40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045-79F8-471F-A034-F1B8EC7657E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Interfacce WIMP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WIMP = Windows, Icons, Menus, Pointers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È lo stile della maggioranza degli attuali PC (MS Windows, Apple Mac OS)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L' interazione avviene mediante operazioni (puntamenti, trascinamenti, etc...) effettuate dall'utente su oggetti virtuali (bottoni, icone,etc.)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datto ad utenti con scarse conoscenze del sistema e una discreta conoscenza del compito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Incarna il modello della manipolazione diretta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00A-E696-4A29-8D03-E6D9A81C303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acile da imparar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e operazioni sono spesso reversibli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lessibil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Feedback istantaneo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ntuitivo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vantagg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uò essere inefficient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Occupazione di spazio video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i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ù costoso da programmmart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781-4C8B-4775-95CE-ABE5F2AF74A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Elementi della WIMP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Gli elementi di una GUI  si chiamamo </a:t>
            </a:r>
            <a:r>
              <a:rPr b="0" i="1" lang="it-IT" sz="2800" spc="-1" strike="noStrike">
                <a:solidFill>
                  <a:srgbClr val="c2e0f9"/>
                </a:solidFill>
                <a:latin typeface="Tahoma"/>
              </a:rPr>
              <a:t>widge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t (</a:t>
            </a:r>
            <a:r>
              <a:rPr b="0" i="1" lang="it-IT" sz="2800" spc="-1" strike="noStrike">
                <a:solidFill>
                  <a:srgbClr val="c2e0f9"/>
                </a:solidFill>
                <a:latin typeface="Tahoma"/>
              </a:rPr>
              <a:t>window gadget</a:t>
            </a: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67320" y="3419640"/>
            <a:ext cx="14040" cy="1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E41-7572-4986-B146-338F2E382DF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Elementi della WIMP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Finestre (Windows)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Aree dello schermo che si comportano come se fossero indipendenti 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uò contenere testo o oggetti grafici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uò essere spostata o ridimensionata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ossono affiancarsi o sovrapporsi ed oscurarsi a vicenda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Barra di scorrimento (scrollbar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permette di muovere il contenuto della finestra sopra e sotto o da un lato all’altro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barra del titolo (title bar)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escrive il nome della finestr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055-2E8C-46F9-857C-01CDEBF27C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Icone (Icons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ono piccole immagini o figure usate per rappresentare alcuni oggetti dell’interfaccia o un’azione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e finestre possono essere chiuse (iconificate), ovvero rappresentate da una icon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Puntatori (Pointers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Componente fondamentale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Identifica una corrispondenza spaziale fra lo schermo e la posizione fisica del mous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Tipicamente una piccola freccia, ma pu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ò cambiare (es. mano o clessidra)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510-6329-4922-867F-F6A02354CA2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Menu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Scelta (tramite il puntatore) di operazioni elencate sul display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Alleggeriscono il compito della memoria a breve termine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Non bisogna mettere troppe voci, meglio usare menu a cascata (cascading menu)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la selezione di un menu apre un altro menu adiacente.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enu principale visibile sempre come barra dei menu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864-3006-4F95-AE50-36EEDDD776A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enu a tendina (pull-down)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fall-down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simili ai menu a tendina ma non serve fare click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2e0f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menu a comparsa (pop-up) 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di solito per opzioni contestual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2e0f9"/>
                </a:solidFill>
                <a:latin typeface="Tahoma"/>
              </a:rPr>
              <a:t>Appaiono dove si clicca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B13-C735-4820-AF80-A1090B71E28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9bef2"/>
                </a:solidFill>
                <a:latin typeface="Tahoma"/>
              </a:rPr>
              <a:t>Modello di Norman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</a:rPr>
              <a:t>In questo modello l’attenzione è incentrata maggiormente sulla visione che l’utente ha della interazione.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2e0f9"/>
                </a:solidFill>
                <a:latin typeface="Tahoma"/>
                <a:ea typeface="ＭＳ Ｐゴシック"/>
              </a:rPr>
              <a:t>È basato su di un ciclo di esecuzione/valutazione</a:t>
            </a: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C42-B8C7-4F05-A4B1-BACDB2031D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800" y="430200"/>
            <a:ext cx="77724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	</a:t>
            </a: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	</a:t>
            </a: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	</a:t>
            </a: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   </a:t>
            </a:r>
            <a:r>
              <a:rPr b="1" lang="it-IT" sz="8000" spc="-1" strike="noStrike">
                <a:solidFill>
                  <a:srgbClr val="c2e0f9"/>
                </a:solidFill>
                <a:latin typeface="Tahoma"/>
              </a:rPr>
              <a:t>FINE!</a:t>
            </a:r>
            <a:endParaRPr b="0" lang="en-US" sz="8000" spc="-1" strike="noStrike">
              <a:solidFill>
                <a:srgbClr val="c2e0f9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BA3-1A18-4797-B5D5-425FFDECD63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008920" y="34383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330960" y="3940920"/>
            <a:ext cx="1471680" cy="1039320"/>
            <a:chOff x="6330960" y="3940920"/>
            <a:chExt cx="1471680" cy="1039320"/>
          </a:xfrm>
        </p:grpSpPr>
        <p:sp>
          <p:nvSpPr>
            <p:cNvPr id="69" name=""/>
            <p:cNvSpPr/>
            <p:nvPr/>
          </p:nvSpPr>
          <p:spPr>
            <a:xfrm>
              <a:off x="6330960" y="458136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2e0f9"/>
                  </a:solidFill>
                  <a:latin typeface="Arial"/>
                </a:rPr>
                <a:t>esecuzione</a:t>
              </a:r>
              <a:endParaRPr b="0" lang="en-US" sz="20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5865800">
              <a:off x="6761160" y="3656160"/>
              <a:ext cx="533520" cy="121896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213120 h 1218960"/>
                <a:gd name="textAreaBottom" fmla="*/ 8838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338160" y="1457280"/>
            <a:ext cx="1469880" cy="1039680"/>
            <a:chOff x="6338160" y="1457280"/>
            <a:chExt cx="1469880" cy="1039680"/>
          </a:xfrm>
        </p:grpSpPr>
        <p:sp>
          <p:nvSpPr>
            <p:cNvPr id="72" name=""/>
            <p:cNvSpPr/>
            <p:nvPr/>
          </p:nvSpPr>
          <p:spPr>
            <a:xfrm>
              <a:off x="6338160" y="1457280"/>
              <a:ext cx="14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2e0f9"/>
                  </a:solidFill>
                  <a:latin typeface="Arial"/>
                </a:rPr>
                <a:t>valutazione</a:t>
              </a:r>
              <a:endParaRPr b="0" lang="en-US" sz="20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 rot="16081200">
              <a:off x="6719760" y="1562040"/>
              <a:ext cx="609480" cy="121860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12760 h 1218600"/>
                <a:gd name="textAreaBottom" fmla="*/ 88308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789600" y="262908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94320" y="2476440"/>
            <a:ext cx="1332000" cy="14605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4738680" y="1714680"/>
            <a:ext cx="1282680" cy="1008000"/>
            <a:chOff x="4738680" y="1714680"/>
            <a:chExt cx="1282680" cy="1008000"/>
          </a:xfrm>
        </p:grpSpPr>
        <p:sp>
          <p:nvSpPr>
            <p:cNvPr id="77" name=""/>
            <p:cNvSpPr/>
            <p:nvPr/>
          </p:nvSpPr>
          <p:spPr>
            <a:xfrm>
              <a:off x="4739400" y="19908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2e0f9"/>
                  </a:solidFill>
                  <a:latin typeface="Arial"/>
                </a:rPr>
                <a:t>obiettivo</a:t>
              </a:r>
              <a:endParaRPr b="0" lang="en-US" sz="20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8680" y="1714680"/>
              <a:ext cx="1282680" cy="1008000"/>
            </a:xfrm>
            <a:prstGeom prst="cloudCallout">
              <a:avLst>
                <a:gd name="adj1" fmla="val 58416"/>
                <a:gd name="adj2" fmla="val 30629"/>
              </a:avLst>
            </a:prstGeom>
            <a:noFill/>
            <a:ln w="9360">
              <a:solidFill>
                <a:srgbClr val="c2e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2e0f9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bef2"/>
                </a:solidFill>
                <a:latin typeface="Tahoma"/>
              </a:rPr>
              <a:t>Ciclo di valutazione/esecu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e0f9"/>
                </a:solidFill>
                <a:latin typeface="Tahoma"/>
              </a:rPr>
              <a:t>Esecuzione</a:t>
            </a: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: l'utente ha un obiettivo, formula un piano d'azione e lo esegue mediante l'interfaccia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2e0f9"/>
                </a:solidFill>
                <a:latin typeface="Tahoma"/>
              </a:rPr>
              <a:t>Valutazione: l'utente osserva l'interfaccia per valutare, rispetto alll’obiettivo, il risultato del’esecuzione e determina le azioni successive.</a:t>
            </a:r>
            <a:endParaRPr b="0" lang="en-US" sz="24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806-980E-4A92-A07D-9785C0906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e0f9"/>
                </a:solidFill>
                <a:latin typeface="Tahoma"/>
              </a:rPr>
              <a:t>Ciclo di valutazione/esecu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L’utente stabilisce l’obiettiv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Formula l’inten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Specifica la sequenza di  azion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Esegue le azioni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Percepisce lo stato del sistem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Interpreta lo stato del sistem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Valuta lo stato del sisterma in relazione all’obiettiv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8008920" y="34383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8160" y="14572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valuta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30960" y="458136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esecu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5865800">
            <a:off x="6761160" y="365616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 rot="16081200">
            <a:off x="6719760" y="1562040"/>
            <a:ext cx="609480" cy="1218600"/>
          </a:xfrm>
          <a:custGeom>
            <a:avLst/>
            <a:gdLst>
              <a:gd name="textAreaLeft" fmla="*/ 81360 w 609480"/>
              <a:gd name="textAreaRight" fmla="*/ 528120 w 609480"/>
              <a:gd name="textAreaTop" fmla="*/ 212760 h 1218600"/>
              <a:gd name="textAreaBottom" fmla="*/ 883080 h 121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9400" y="19908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obiettivo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789600" y="262908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94320" y="247644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38680" y="1714680"/>
            <a:ext cx="1282680" cy="1008000"/>
          </a:xfrm>
          <a:prstGeom prst="cloudCallout">
            <a:avLst>
              <a:gd name="adj1" fmla="val 58416"/>
              <a:gd name="adj2" fmla="val 30629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295280"/>
            <a:ext cx="3809880" cy="381240"/>
          </a:xfrm>
          <a:prstGeom prst="rect">
            <a:avLst/>
          </a:prstGeom>
          <a:noFill/>
          <a:ln w="381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6400" y="1866960"/>
            <a:ext cx="1600200" cy="685800"/>
          </a:xfrm>
          <a:prstGeom prst="ellipse">
            <a:avLst/>
          </a:prstGeom>
          <a:noFill/>
          <a:ln w="381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B93-ACBA-4099-84F4-921F4BD234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27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e0f9"/>
                </a:solidFill>
                <a:latin typeface="Tahoma"/>
              </a:rPr>
              <a:t>Ciclo di valutazione/esecuzione</a:t>
            </a:r>
            <a:endParaRPr b="0" lang="en-US" sz="3600" spc="-1" strike="noStrike">
              <a:solidFill>
                <a:srgbClr val="69bef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L’utente stabilisce l’obiettiv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Formula l’intenzione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Specifica la sequenza di  azioni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Esegue le azioni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Percepisce lo stato del sistem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Interpreta lo stato del sistema 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2e0f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Tahoma"/>
              </a:rPr>
              <a:t>Valuta lo stato del sisterma in relazione all’obiettivo</a:t>
            </a:r>
            <a:endParaRPr b="0" lang="en-US" sz="2000" spc="-1" strike="noStrike">
              <a:solidFill>
                <a:srgbClr val="c2e0f9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8008920" y="34383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8160" y="14572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valuta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30960" y="458136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esecuzione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5865800">
            <a:off x="6761160" y="365616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 rot="16081200">
            <a:off x="6719760" y="1562040"/>
            <a:ext cx="609480" cy="1218600"/>
          </a:xfrm>
          <a:custGeom>
            <a:avLst/>
            <a:gdLst>
              <a:gd name="textAreaLeft" fmla="*/ 81360 w 609480"/>
              <a:gd name="textAreaRight" fmla="*/ 528120 w 609480"/>
              <a:gd name="textAreaTop" fmla="*/ 212760 h 1218600"/>
              <a:gd name="textAreaBottom" fmla="*/ 883080 h 121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39400" y="19908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2e0f9"/>
                </a:solidFill>
                <a:latin typeface="Arial"/>
              </a:rPr>
              <a:t>obiettivo</a:t>
            </a:r>
            <a:endParaRPr b="0" lang="en-US" sz="2000" spc="-1" strike="noStrike">
              <a:solidFill>
                <a:srgbClr val="c2e0f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89600" y="2629080"/>
            <a:ext cx="1257480" cy="1252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94320" y="2476440"/>
            <a:ext cx="1332000" cy="1460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738680" y="1714680"/>
            <a:ext cx="1282680" cy="1008000"/>
          </a:xfrm>
          <a:prstGeom prst="cloudCallout">
            <a:avLst>
              <a:gd name="adj1" fmla="val 58416"/>
              <a:gd name="adj2" fmla="val 30629"/>
            </a:avLst>
          </a:prstGeom>
          <a:noFill/>
          <a:ln w="9360">
            <a:solidFill>
              <a:srgbClr val="c2e0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76520"/>
            <a:ext cx="3809880" cy="1218960"/>
          </a:xfrm>
          <a:prstGeom prst="rect">
            <a:avLst/>
          </a:prstGeom>
          <a:noFill/>
          <a:ln w="381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75520" y="4419720"/>
            <a:ext cx="1752480" cy="685800"/>
          </a:xfrm>
          <a:prstGeom prst="ellipse">
            <a:avLst/>
          </a:prstGeom>
          <a:noFill/>
          <a:ln w="381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2e0f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88D-3024-4107-A1DD-12CC269A8D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ana</cp:lastModifiedBy>
  <cp:lastPrinted>2006-10-13T17:12:53Z</cp:lastPrinted>
  <dcterms:modified xsi:type="dcterms:W3CDTF">2008-04-23T15:53:12Z</dcterms:modified>
  <cp:revision>38</cp:revision>
  <dc:subject/>
  <dc:title>Interazione Uomo-Macchina </dc:title>
</cp:coreProperties>
</file>