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bef2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468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468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C579B5-7595-400B-93BF-1740578DB0AC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a Wikip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o scopo primario di un sistema interattivo e` consentire al’utente di raggiungere I suoin obiettivi; in altri termini, il sistema deve essere usab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ltre a concentrarsi sull’inalzamento della efficienza e delle produttivita’ (tramite incremento usabilita’), il progetto di UI si confronta sempre piu’ con la progettazione della esperienza d’uso, vale a dire al modo in cui gli utenti vivono l’interazione con il sistema (soggettiv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i sono alcuni principi e regole che riprenderemo piu’ avanti, prendiamola come un’antep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hort for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man-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omputer 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nteraction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a discipline concerned with studyng the interaction between people and comoputerrs, concerning with physical, pscycological and theoretical aspects of th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09B6-8F81-4E9C-BDD8-CE8DE7B7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DBAA-34BF-4C4F-A36C-ECCBF430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AEB2-040D-4737-AC12-359E768E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1DD-A5C2-4915-A0BE-E58D29A0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3237-3DDD-4261-A53D-FC80A0F4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0C56-F2C2-4B5D-B4C2-70D26286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2AD-8B0A-41B6-93AE-32AD97F8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DBDC-38C5-4145-8CB4-1A5AA20C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E34-6175-4EF1-94F6-994C86D3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C7FF-D46B-4A29-A7B8-4084786E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2C80-ABF7-4EB0-9A54-B0EC6E04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FFF-8B8B-467A-B0AC-46FAD3F4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2e005d"/>
          </a:solidFill>
          <a:ln w="9360">
            <a:solidFill>
              <a:srgbClr val="2e0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bef2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2e0f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c2e0f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c2e0f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c2e0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2e0f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c2e0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2e0f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c2e0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1ED8-7A05-4B2D-90B9-8E29A585EA3A}" type="slidenum">
              <a:rPr b="0" lang="it-IT" sz="1200" spc="-1" strike="noStrike">
                <a:solidFill>
                  <a:srgbClr val="c2e0f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320040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User-friendlines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33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Corso di Laurea in Scienze della Comunicazione</a:t>
            </a:r>
            <a:br>
              <a:rPr sz="2400"/>
            </a:b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 Interazione uomo macchina </a:t>
            </a:r>
            <a:br>
              <a:rPr sz="2400"/>
            </a:b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A.A. 2008-2009</a:t>
            </a:r>
            <a:endParaRPr b="0" lang="en-US" sz="24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Capitolo 1: 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2e0f9"/>
                </a:solidFill>
                <a:latin typeface="Tahoma"/>
              </a:rPr>
              <a:t>INTRODUZIONE</a:t>
            </a:r>
            <a:endParaRPr b="0" lang="en-US" sz="36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1054080" y="4653000"/>
            <a:ext cx="7118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e0f9"/>
                </a:solidFill>
                <a:latin typeface="Arial"/>
              </a:rPr>
              <a:t>Docente: Michele Piana</a:t>
            </a: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B5B3-C907-41FC-9B1C-9B005BB5873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9bef2"/>
                </a:solidFill>
                <a:latin typeface="Tahoma"/>
              </a:rPr>
              <a:t>Quanti  computer…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2e0f9"/>
              </a:buClr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2e0f9"/>
                </a:solidFill>
                <a:latin typeface="Tahoma"/>
              </a:rPr>
              <a:t>…</a:t>
            </a:r>
            <a:r>
              <a:rPr b="0" lang="en-GB" sz="2400" spc="-1" strike="noStrike">
                <a:solidFill>
                  <a:srgbClr val="c2e0f9"/>
                </a:solidFill>
                <a:latin typeface="Tahoma"/>
              </a:rPr>
              <a:t>nella tua casa?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476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2e0f9"/>
              </a:solidFill>
              <a:latin typeface="Tahoma"/>
            </a:endParaRPr>
          </a:p>
          <a:p>
            <a:pPr lvl="1" marL="47628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PC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47628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TV, VCR, DVD, HiFi, cable/satellite TV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47628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microwave, cooker, washing machin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47628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central heating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47628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security system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47628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Game consoll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476280" indent="-285840">
              <a:spcBef>
                <a:spcPts val="499"/>
              </a:spcBef>
              <a:buClr>
                <a:srgbClr val="c2e0f9"/>
              </a:buClr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altri?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2e0f9"/>
                </a:solidFill>
                <a:latin typeface="Tahoma"/>
              </a:rPr>
              <a:t>.. Nelle tue tasche?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PDA (Personal Digital Assistant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phone, camera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smart card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electronic car key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USB memory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iPod (MP3 reader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prova a svuotare tasche e borse…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B3CB-4BC6-4E02-9B03-A3A0FCE286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Storia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Human performance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Inizio XX secolo. Applicazione diretta del taylorismo.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Ergonomics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Caratteristiche fisiche dell’uomo e della macchina (es. armi) e come queste si riflettono sulle prestazioni (GB, anni ‘50).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Human factors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Termine americano (anni ‘60). Entrano in gioco fattori cognitivi.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Human-computer interaction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Ergonomia: sistema informatico, meccanico o manuale.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Man-Machine Interaction (anni ‘70) e poi Human-Computer Interaction (politically correct) specializzato per sistemi informatici.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901-FA77-4353-912F-AB6CAFBA4F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1752480" cy="1746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0560" y="1371600"/>
            <a:ext cx="1440" cy="1895400"/>
          </a:xfrm>
          <a:prstGeom prst="line">
            <a:avLst/>
          </a:prstGeom>
          <a:ln w="57240">
            <a:solidFill>
              <a:srgbClr val="69b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00600" y="2473200"/>
            <a:ext cx="685800" cy="0"/>
          </a:xfrm>
          <a:prstGeom prst="line">
            <a:avLst/>
          </a:prstGeom>
          <a:ln w="9360">
            <a:solidFill>
              <a:srgbClr val="c2e0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86040" y="2473200"/>
            <a:ext cx="685800" cy="0"/>
          </a:xfrm>
          <a:prstGeom prst="line">
            <a:avLst/>
          </a:prstGeom>
          <a:ln w="9360">
            <a:solidFill>
              <a:srgbClr val="c2e0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72200" y="2286000"/>
            <a:ext cx="1581120" cy="459720"/>
          </a:xfrm>
          <a:prstGeom prst="rect">
            <a:avLst/>
          </a:prstGeom>
          <a:solidFill>
            <a:srgbClr val="80808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31600" y="205740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Sistemi SW</a:t>
            </a: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17600" y="121932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Algoritmi</a:t>
            </a: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72880" y="289548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Dispositivi I/O</a:t>
            </a: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67280" y="3352680"/>
            <a:ext cx="28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bef2"/>
                </a:solidFill>
                <a:latin typeface="Tahoma"/>
              </a:rPr>
              <a:t>User Interface (UI)</a:t>
            </a: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400800" y="1523880"/>
            <a:ext cx="380880" cy="152640"/>
          </a:xfrm>
          <a:prstGeom prst="line">
            <a:avLst/>
          </a:prstGeom>
          <a:ln w="9360">
            <a:solidFill>
              <a:srgbClr val="c2e0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629040" y="2286000"/>
            <a:ext cx="685800" cy="0"/>
          </a:xfrm>
          <a:prstGeom prst="line">
            <a:avLst/>
          </a:prstGeom>
          <a:ln w="9360">
            <a:solidFill>
              <a:srgbClr val="c2e0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6705360" y="2666520"/>
            <a:ext cx="533160" cy="304920"/>
          </a:xfrm>
          <a:prstGeom prst="line">
            <a:avLst/>
          </a:prstGeom>
          <a:ln w="9360">
            <a:solidFill>
              <a:srgbClr val="c2e0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Interfaccia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3885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Vista dal progettista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la funzionalità dell’applicazione è separata dal UI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UI è spesso vista come un aggiunta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Vista dall’utente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non distingue tra UI e applicazione sottostant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se la UI è ben progettata e usabile, l’intera applicazione appare usabil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38520" y="1295280"/>
            <a:ext cx="1833480" cy="2011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782800" y="2286000"/>
            <a:ext cx="1122480" cy="459720"/>
          </a:xfrm>
          <a:prstGeom prst="rect">
            <a:avLst/>
          </a:prstGeom>
          <a:solidFill>
            <a:srgbClr val="80808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utente</a:t>
            </a: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1320" y="1295280"/>
            <a:ext cx="26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Documentazione</a:t>
            </a: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" y="205740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Training</a:t>
            </a: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88560" y="2743200"/>
            <a:ext cx="26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Ambiente sociale</a:t>
            </a: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e lavorativo</a:t>
            </a: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2286000"/>
            <a:ext cx="990360" cy="228600"/>
          </a:xfrm>
          <a:prstGeom prst="line">
            <a:avLst/>
          </a:prstGeom>
          <a:ln w="9360">
            <a:solidFill>
              <a:srgbClr val="c2e0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286000" y="3123720"/>
            <a:ext cx="304920" cy="228600"/>
          </a:xfrm>
          <a:prstGeom prst="line">
            <a:avLst/>
          </a:prstGeom>
          <a:ln w="9360">
            <a:solidFill>
              <a:srgbClr val="c2e0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1600200"/>
            <a:ext cx="228600" cy="533520"/>
          </a:xfrm>
          <a:prstGeom prst="line">
            <a:avLst/>
          </a:prstGeom>
          <a:ln w="9360">
            <a:solidFill>
              <a:srgbClr val="c2e0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9D7-E0E2-4B17-963F-5F53DF3D39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Interfaccia (cont.)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Una UI include tutti gli aspetti di progetto di un sistema che influenzano l’interazione tra il sistema stesso e l’utente.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In particolare: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la corrispondenza con i compiti dell’utent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la metafora usata (eg., desktop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i controlli e comportamenti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navigazione entro una schermata e flusso tra schermat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integrazione tra differenti applicazioni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il progetto visuale delle schermat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il progetto di interazioni audio non verbali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C4B-1D9F-460D-9F9B-BE6EF6E4DD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Obiettivi della IUM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Arial"/>
                <a:ea typeface="ＭＳ Ｐゴシック"/>
              </a:rPr>
              <a:t>Migliorare l’interazione tra utenti e computer rendendo I computer più 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1"/>
              </a:rPr>
              <a:t>user-friendly</a:t>
            </a:r>
            <a:r>
              <a:rPr b="0" lang="it-IT" sz="2400" spc="-1" strike="noStrike">
                <a:solidFill>
                  <a:srgbClr val="c2e0f9"/>
                </a:solidFill>
                <a:latin typeface="Arial"/>
              </a:rPr>
              <a:t> e maggiormente ricettivi alle necessit</a:t>
            </a:r>
            <a:r>
              <a:rPr b="0" lang="it-IT" sz="2400" spc="-1" strike="noStrike">
                <a:solidFill>
                  <a:srgbClr val="c2e0f9"/>
                </a:solidFill>
                <a:latin typeface="Arial"/>
                <a:ea typeface="ＭＳ Ｐゴシック"/>
              </a:rPr>
              <a:t>à </a:t>
            </a:r>
            <a:r>
              <a:rPr b="0" lang="it-IT" sz="2400" spc="-1" strike="noStrike">
                <a:solidFill>
                  <a:srgbClr val="c2e0f9"/>
                </a:solidFill>
                <a:latin typeface="Arial"/>
              </a:rPr>
              <a:t>dell’utente.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Arial"/>
              </a:rPr>
              <a:t>Progettare sistemi che minimizzino la barriera tra il modello cognitivo umano di ci</a:t>
            </a:r>
            <a:r>
              <a:rPr b="0" lang="it-IT" sz="2400" spc="-1" strike="noStrike">
                <a:solidFill>
                  <a:srgbClr val="c2e0f9"/>
                </a:solidFill>
                <a:latin typeface="Arial"/>
                <a:ea typeface="ＭＳ Ｐゴシック"/>
              </a:rPr>
              <a:t>ò che egli vuole compiere e la “comprensione” del calcolatore del compito dell’utente.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Arial"/>
                <a:ea typeface="ＭＳ Ｐゴシック"/>
              </a:rPr>
              <a:t>Specificatamente, la IUM si occupa di: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Arial"/>
              </a:rPr>
              <a:t>Metodologie e processi per il progetto di interfacci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Arial"/>
              </a:rPr>
              <a:t>Metodi per l’implementazione di interfacci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Arial"/>
              </a:rPr>
              <a:t>Tecniche per la valutazione ed il confronto di interfacci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Arial"/>
              </a:rPr>
              <a:t>Sviluppo di nuove interfaccie e metodi di interazion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Arial"/>
              </a:rPr>
              <a:t>Sviluppo di modelli e teorie dell’interazione che siano descrittivi e predittivi.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D03C-C2FE-4FA3-9A68-4F9FFF5045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Usabilit</a:t>
            </a:r>
            <a:r>
              <a:rPr b="0" lang="it-IT" sz="3600" spc="-1" strike="noStrike">
                <a:solidFill>
                  <a:srgbClr val="69bef2"/>
                </a:solidFill>
                <a:latin typeface="Tahoma"/>
                <a:ea typeface="ＭＳ Ｐゴシック"/>
              </a:rPr>
              <a:t>à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Efficacia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il sistema fa quello per cui 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è stato progettato?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Efficienza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Il sistema supporta la produttivit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à aiutando 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l’utente a portare a termine il suo compito?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Sicurezza 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il sistema impedisce gravi errori? aiuta a porvi rimedio?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Utilit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à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Il sistema fornisce le funzionalit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à adatte ai compiti dell’utente?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Facilit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à di apprendimento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Quanto 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è facile imparare ad usare il sistema?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Facilit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à di ricordo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Quanto 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è facile ricordarne le modalità di uso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A8A-B354-4179-A550-989B7E1894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Esperienza d’uso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Divertimento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Soddisfazione di bisogni emotivi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Gratificazione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Sostegno alla creativit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à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Piacevolezza estetica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Capacità di dare motivazione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Capacità di essere d’aiuto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Capacità di intrattenere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Godibilità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Soddisfazione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DF5B-C6DD-45A5-98E3-71ECDD208A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bef2"/>
                </a:solidFill>
                <a:latin typeface="Tahoma"/>
              </a:rPr>
              <a:t>L’avanzamento della tecnologia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I nuovi prodotti tecnologici hanno accresciuto la necessità di di migliori UI e miglior progetti di UI: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reti e sistemi distribuiti permettono l’accesso remoto di informazioni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memoria a potenza di calcolo è ora disponibile a costi ridotti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più persone hanno accesso a maggior potenza di calcolo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Ma la tecnologia non produce da sola interfacce usabili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UI grafiche (GUI) non sono intrinsecamente più usabili delle tradizionali interfacce a caratteri (CUI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GUI possono essere meno usabili se progettate mal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UI usabili richiedono un oculato progetto. 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7EB9-8B9F-479E-9C65-A450B7CF7F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L’importanza di una buona UI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Buone UI possono fornire: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migliore qualit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à percepita del prodotto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costi ridotti di addestramento e di supporto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minori errori dell’utente costi ridotti di produttività una volta installato il sistema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riduzione del lavoro necessario per soddisfare le richieste dell’utent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maggiore produttività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elevata capacità di trasferimento delle competenze tra applicativi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soddisfazione dell’utent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piena utilizzazione della funzionalità dell’applicazion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01CF-6C83-4392-B1F5-70064AB0A0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Buone interfacce fanno vendere i sistemi (Xerox PARC </a:t>
            </a:r>
            <a:r>
              <a:rPr b="0" lang="it-IT" sz="2800" spc="-1" strike="noStrike">
                <a:solidFill>
                  <a:srgbClr val="c2e0f9"/>
                </a:solidFill>
                <a:latin typeface="Wingdings"/>
                <a:ea typeface="Wingdings"/>
              </a:rPr>
              <a:t></a:t>
            </a: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 Mac </a:t>
            </a:r>
            <a:r>
              <a:rPr b="0" lang="it-IT" sz="2800" spc="-1" strike="noStrike">
                <a:solidFill>
                  <a:srgbClr val="c2e0f9"/>
                </a:solidFill>
                <a:latin typeface="Wingdings"/>
                <a:ea typeface="Wingdings"/>
              </a:rPr>
              <a:t></a:t>
            </a: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 Windows)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Cattive interfacce fanno apparire peggiori sistemi che sono ottimi per le loro funzionalità.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998-9717-4993-B177-CB660BD034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bef2"/>
                </a:solidFill>
                <a:latin typeface="Tahoma"/>
              </a:rPr>
              <a:t>CONTATTI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44792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Orario di ricevimento: 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Lunedi ore 13:30 – 14:00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Aula 1.1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Indirizzo email:     michele.piana@univr.it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673560" y="5124600"/>
            <a:ext cx="49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2e0f9"/>
                </a:solidFill>
                <a:latin typeface="Arial"/>
              </a:rPr>
              <a:t>http://www.di.univr.it/~piana</a:t>
            </a:r>
            <a:endParaRPr b="0" lang="en-US" sz="28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7C6-12C0-46E6-81BD-1C39F6C5EF5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Una UI richiede dal 40% al 90% del codice totale, in media 70%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Se fatta male deve essere completamente rifatta, altrimenti il costo passa agli utenti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Una GUI richiede almeno il 29% del budget di progetto di sviluppo SW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E17-DB28-42F4-A761-FD733C88B9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Le UI sono la chiave della funzionalità di un sistema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le UI mal fatte possono rendere impossibile agli utenti l’accesso alle funzionalità che richiedono e li rendono meno produttivi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Esistono casi nei quali applicativi costosi non sono stati usati dal personale addetto perché inusabili e difficili da memorizzarne il funzionamento.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Un altro caso in cui un applicativo richiedeva 6 mesi di addestramento quando il tempo medio di un impiegato per eseguire quel compito era 18 mesi.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8AE-5AE8-43D3-807B-78281C47E6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Il capitale umano è sempre più importante, quindi esiste la necessità di UI facili da imparare e usare, efficienti, memorizzabili, non soggette ad errori, soddisfacenti per l’utente.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Esempi: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20 utenti che lavorano per 230 giorni/anno x 100 schermate/giorno, se l’UI permette di risparmiare 10 sec/schermata si ha un risparmio di 1278 h (32 settimane);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se 500 utenti fanno 20 errori/anno e impiegano 15 min/errore, si hanno 2500 ore sprecate (63 settimane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9F0E-F531-41AA-8630-35C57219F8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Regole per il progetto di UI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Principi di ingegneria basati sulla </a:t>
            </a:r>
            <a:r>
              <a:rPr b="0" i="1" lang="it-IT" sz="2800" spc="-1" strike="noStrike">
                <a:solidFill>
                  <a:srgbClr val="c2e0f9"/>
                </a:solidFill>
                <a:latin typeface="Tahoma"/>
              </a:rPr>
              <a:t>psicologia cognitiva</a:t>
            </a: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Sebbene gli utenti siano individui distinti, hanno “architetture” simili: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capacità di apprendimento e memoria;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prestazioni motorie, visuali e uditive.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Tali concetti e processi possono essere usati per definire principi generali di progetto di UI.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80EF-4CAB-4DE4-9130-5BEF5230A5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Caratteristiche di una buona UI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L’interfaccia utente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deve suggerire all’utente quali operazioni esso possa compiere sulla UI  (affordance);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deve rendere ovvia la relazione tra l’azione del sistema e l’azione svolta dall’utente (mapping);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deve fornire una retroazione all’azione dell’utente (feedback);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fornisce un buon modello concettuale del comportamento del sistema sottostante;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fornisce delle funzioni vincolanti (per prevenire errori dell’utente);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supporta l’addestramento automatico;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D73A-765B-4967-A1DA-CA323E376D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430200"/>
            <a:ext cx="77724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c2e0f9"/>
                </a:solidFill>
                <a:latin typeface="Tahoma"/>
              </a:rPr>
              <a:t>	</a:t>
            </a:r>
            <a:r>
              <a:rPr b="1" lang="it-IT" sz="8000" spc="-1" strike="noStrike">
                <a:solidFill>
                  <a:srgbClr val="c2e0f9"/>
                </a:solidFill>
                <a:latin typeface="Tahoma"/>
              </a:rPr>
              <a:t>	</a:t>
            </a:r>
            <a:r>
              <a:rPr b="1" lang="it-IT" sz="8000" spc="-1" strike="noStrike">
                <a:solidFill>
                  <a:srgbClr val="c2e0f9"/>
                </a:solidFill>
                <a:latin typeface="Tahoma"/>
              </a:rPr>
              <a:t>	</a:t>
            </a:r>
            <a:r>
              <a:rPr b="1" lang="it-IT" sz="8000" spc="-1" strike="noStrike">
                <a:solidFill>
                  <a:srgbClr val="c2e0f9"/>
                </a:solidFill>
                <a:latin typeface="Tahoma"/>
              </a:rPr>
              <a:t>   </a:t>
            </a:r>
            <a:r>
              <a:rPr b="1" lang="it-IT" sz="8000" spc="-1" strike="noStrike">
                <a:solidFill>
                  <a:srgbClr val="c2e0f9"/>
                </a:solidFill>
                <a:latin typeface="Tahoma"/>
              </a:rPr>
              <a:t>FINE!</a:t>
            </a:r>
            <a:endParaRPr b="0" lang="en-US" sz="80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B998-E3B0-40E9-A694-526B4A099E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2e0f9"/>
                </a:solidFill>
                <a:latin typeface="Tahoma"/>
              </a:rPr>
              <a:t>LIBRO CONSIGLIATO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i="1" lang="it-IT" sz="2800" spc="-1" strike="noStrike" u="sng">
                <a:solidFill>
                  <a:srgbClr val="c2e0f9"/>
                </a:solidFill>
                <a:uFillTx/>
                <a:latin typeface="Tahoma"/>
              </a:rPr>
              <a:t>Interazione uomo-macchina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c2e0f9"/>
                </a:solidFill>
                <a:latin typeface="Tahoma"/>
              </a:rPr>
              <a:t>   </a:t>
            </a:r>
            <a:r>
              <a:rPr b="1" i="1" lang="it-IT" sz="2800" spc="-1" strike="noStrike">
                <a:solidFill>
                  <a:srgbClr val="c2e0f9"/>
                </a:solidFill>
                <a:latin typeface="Tahoma"/>
              </a:rPr>
              <a:t>Alan Dix, Janet Finlay, Gregory D. Abowd, Russell Beale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McGraw – Hill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0B45-B360-4686-A820-CBD556DB33D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bef2"/>
                </a:solidFill>
                <a:latin typeface="Tahoma"/>
              </a:rPr>
              <a:t>ESAME - I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30 domande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3 possibili risposte di cui una giusta e due sbagliate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1 punto per ogni risposta giusta, zero per ogni risposta sbagliata, zero per ogni risposta non data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registrazione elettronica del voto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501-DEAF-494E-9418-A6ADAB06AA9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bef2"/>
                </a:solidFill>
                <a:latin typeface="Tahoma"/>
              </a:rPr>
              <a:t>ESAME - II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TUTTI GLI APPELLI SONO UGUALI…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MA IL PRIMO APPELLO E’ PIU’ UGUALE DEGLI ALTRI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638-EDB6-4458-9CB2-65EA3886D7C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49480" y="2819520"/>
            <a:ext cx="5113440" cy="3581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69bef2"/>
                </a:solidFill>
                <a:latin typeface="Tahoma"/>
              </a:rPr>
              <a:t>Interazione Uomo-Macchina</a:t>
            </a:r>
            <a:br>
              <a:rPr sz="4000"/>
            </a:br>
            <a:endParaRPr b="0" lang="en-US" sz="40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Introduzione alla</a:t>
            </a:r>
            <a:br>
              <a:rPr sz="2800"/>
            </a:b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 Interazione Uomo-Macchina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7B5-585C-4273-9628-156674C672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Cos’è e cosa vuol dire IUM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IUM = Interazione Uomo-Macchina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HCI = Human-Computer Interaction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2e0f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Arial"/>
              </a:rPr>
              <a:t>Disciplina che studia l’interazione tra persone e computer, tenendo conto degli aspetti fisici, psicologici e teorici del processo.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5943600" cy="26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766-DD84-4727-B889-528521EA42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Termini dell’HCI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Utente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Un individuo, un gruppo di persone che lavorano insieme.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Elaboratore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Ogni tecnologia informatica, dal piccolo PDA (Personal Digital Assistant) al computer da scrivania, ad un sistema su larga scala, ad un sistema </a:t>
            </a:r>
            <a:r>
              <a:rPr b="0" i="1" lang="it-IT" sz="2400" spc="-1" strike="noStrike">
                <a:solidFill>
                  <a:srgbClr val="c2e0f9"/>
                </a:solidFill>
                <a:latin typeface="Tahoma"/>
              </a:rPr>
              <a:t>embedded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 --&gt; ubiquit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à del computer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Interazione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Ogni comunicazione tra utente e computer, diretta o indiretta. 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In ogni caso esiste un </a:t>
            </a:r>
            <a:r>
              <a:rPr b="0" i="1" lang="it-IT" sz="2400" spc="-1" strike="noStrike">
                <a:solidFill>
                  <a:srgbClr val="c2e0f9"/>
                </a:solidFill>
                <a:latin typeface="Tahoma"/>
              </a:rPr>
              <a:t>fine 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 dell’interazione. 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DF2-3149-4DE9-A0EC-F65D85DD8E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bef2"/>
                </a:solidFill>
                <a:latin typeface="Tahoma"/>
              </a:rPr>
              <a:t>Ubiquità dei computer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Il motore elettrico negli anni 30: 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Un solo motore e molti accessori per svolgere compiti diversi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Oggi ogni dispositivo ha il suo motore elettrico.</a:t>
            </a:r>
            <a:br>
              <a:rPr sz="2400"/>
            </a:b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Lo stesso sta avvenendo ora  per il computer…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56320" y="1066680"/>
            <a:ext cx="4387680" cy="5791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95280" y="65530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2e0f9"/>
                </a:solidFill>
                <a:latin typeface="Tahoma"/>
              </a:rPr>
              <a:t>Da: D.A. Norman. “Il  computer invisibile”</a:t>
            </a:r>
            <a:endParaRPr b="0" lang="en-US" sz="1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039-4F74-4BFD-8592-DEC7669E5D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iana</cp:lastModifiedBy>
  <cp:lastPrinted>2006-10-03T14:49:07Z</cp:lastPrinted>
  <dcterms:modified xsi:type="dcterms:W3CDTF">2008-09-25T12:09:45Z</dcterms:modified>
  <cp:revision>36</cp:revision>
  <dc:subject/>
  <dc:title>Interazione Uomo-Macchina</dc:title>
</cp:coreProperties>
</file>