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astella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3-10-16T23:38:58.066000000" idx="1">
    <p:pos x="10" y="10"/>
    <p:text>sotto l'espressione e' valutata per assegnare il 
valore alla variabile c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484-A04F-40D6-AD7C-39D3637D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611-B08F-474B-B8B2-A9010E48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F4E-7A12-46E1-8765-C92A9033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507-99B1-43C6-8F34-A9920DBF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1C2B-8B01-4519-8849-0B34F6BB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8604-57AF-4184-85C6-9D1B528D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7750-BC4D-44D4-86D7-F7A7CD81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92EC-0E96-4F6C-9300-B2E360C7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710-2469-41F3-AAD2-30EAD2BB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8A04-0A34-4D8A-93EB-2AD8DAF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34E-30F0-4096-A9E0-F03FAEC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092-83CD-4BE6-9A16-A7E06F5E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4DEF-D875-4A46-9A78-AC553A7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B8FC-B699-4D24-89C1-2072B79B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D9EB-A132-4991-93CA-DAF4A8BC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5F3D-D45D-4558-B060-D1F553E3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23DE-D14B-4EB3-A725-336E56B1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15D-FAB2-4827-B385-BE297791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8B6-5327-42C0-B184-181AC520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E76-9050-4504-9CD3-8ABC6684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325-A27C-4D53-A463-659F6004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2C8-C9FE-41CC-860E-60B610E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EBA-3E08-40CB-8140-268ED42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1AE-7A52-47B8-A7FC-442B379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8405-B617-4086-9DFC-F742F574DA10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3D9-3840-40C7-8BFB-1B270E06DB33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formatica di bas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19280" y="1989000"/>
            <a:ext cx="8748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Lezione 4: Algoritm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Docente: Michele Pia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CI – Tipi struttura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s: Numero alunni clas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Integer Alunni[5][3] (ho 2 dimensioni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La prima A ha 25 alunn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Alunni[1][1]=2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RD – Tipi struttura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s: </a:t>
            </a:r>
            <a:r>
              <a:rPr b="0" i="1" lang="it-IT" sz="3200" spc="-1" strike="noStrike">
                <a:solidFill>
                  <a:srgbClr val="003366"/>
                </a:solidFill>
                <a:latin typeface="Arial"/>
              </a:rPr>
              <a:t>struct</a:t>
            </a: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 PERSO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String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Nom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String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Cogn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String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Data di nasci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: PERSONA Per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so.Nome=“Mari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so.Cognome=“Rossi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so.Data di nascita= 10/10/197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TR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trutture condizional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 quando è presente una condizione logica che può essere 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vera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o 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falsa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condizioni a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valori boolean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i="1" lang="it-IT" sz="24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(a&gt;b) </a:t>
            </a:r>
            <a:r>
              <a:rPr b="1" i="1" lang="it-IT" sz="24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max </a:t>
            </a:r>
            <a:r>
              <a:rPr b="1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i="1" lang="it-IT" sz="2400" spc="-1" strike="noStrike">
                <a:solidFill>
                  <a:srgbClr val="003366"/>
                </a:solidFill>
                <a:latin typeface="Courier New"/>
              </a:rPr>
              <a:t>else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max </a:t>
            </a:r>
            <a:r>
              <a:rPr b="1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TR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74560" y="2276640"/>
            <a:ext cx="8569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trutture iterative o cicli (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loop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):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quando un blocco di istruzioni (o sottoprogramma) viene ripetuto più volt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ono istruzioni del tipo: “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finché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condizione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ripet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azion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1: leggi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2: I=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3: finché I&lt;10 cicla fino a P6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4: stampa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5: I=I+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6: fine cic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7: sto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UNEDI 6 NOVEMB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 c’e’ lezione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Un algoritmo non è ancora utilizzabile dall’esecutore automatic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ono stati definit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nguaggi di programmazione di 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lto livello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A defini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Un programma è una successione di istruzioni, che mediante un opportuno programma di traduzione possono essere trasformate in istruzioni in linguaggio macchina (“basso livello”) direttamente eseguibili dal calcola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Es di linguaggi di programmazio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, C++, Java, Pascal, Basic,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pert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Ipertest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documento la cui struttura di consultazione non è lineare cioè tale che le parti di cui è logicamente costituito sono organizzate in successione ma secondo una struttura comples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Sequenzi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Interattivit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o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nchor point (punti di aggancio) – link o hyperli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 solito sono attivati da un click del mouse (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point and click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ultimedi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mmagi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u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i (scrip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stribu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iace su più calcolatori (es: Wolrd Wide Web  o WW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: HT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HyperText Markup Langua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È il linguaggio per creare ipertesti multimediali interattivi e distributi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HyperText Markup Language (HTML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’ il formato dei file che realizzano un ipertes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n file HTML contiene sia del testo, che deve essere visualizzato come tale, sia le istruzioni dette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markup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o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ta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gni tag HTML è identificato da un nome che viene scritto nel file delimitandolo da parentesi angolar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badi MT Condensed"/>
              </a:rPr>
              <a:t>&lt;</a:t>
            </a:r>
            <a:r>
              <a:rPr b="0" i="1" lang="it-IT" sz="2400" spc="-1" strike="noStrike">
                <a:solidFill>
                  <a:srgbClr val="003366"/>
                </a:solidFill>
                <a:latin typeface="Abadi MT Condensed"/>
              </a:rPr>
              <a:t>nometag</a:t>
            </a:r>
            <a:r>
              <a:rPr b="0" lang="it-IT" sz="2400" spc="-1" strike="noStrike">
                <a:solidFill>
                  <a:srgbClr val="003366"/>
                </a:solidFill>
                <a:latin typeface="Abadi MT Condensed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Tag - esem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badi MT Condensed"/>
              </a:rPr>
              <a:t>Questo  &lt;BR&gt;è un &lt;P&gt;esemp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s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è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emp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ASSUNTO DELLA LEZIONE PRECED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imento di Immagi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’ possibile inserire un immagine (memorizzata su un file) in un documento HTM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badi MT Condensed"/>
              </a:rPr>
              <a:t>Questa&lt;IMG SRC=“immagine.gif”&gt; è un’imma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he produ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Questa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è un’imma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6120" y="487692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imento di 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ML permette di definire documenti a struttura ipertestuale: il tag &lt;A&gt; permette di inserire anchor poi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zioni 1 e 2 (dati e informazio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Cap. 3 Introd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Paragrafo 3.1 Introd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zione 3 (algoritm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Paragrafi 3.1.1; 3.1.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Paragrafi 3.3; 3.3.1; 3.3.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pertesti: 3.4; 3.4.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genere non è interessante risolvere la singola istanza di un problema ma occorr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generalizz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: A=B+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istruzioni fanno riferimento 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variabil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il cui valore può cambiare a seconda della situ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ogni algoritmo i nomi delle variabili sono usati in operazioni di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assegnament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: r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i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3.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 compaiono all’interno dell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spression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: c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2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pi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RAY (o VETTORI) – Tipi struttura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s: la temperatura della settima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Double T[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T[0]=18; T[1]=20; …T[6]=2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’ importante definire la dimensi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6-10-17T12:12:09Z</dcterms:modified>
  <cp:revision>135</cp:revision>
  <dc:subject/>
  <dc:title>Lezione 2: integrazione</dc:title>
</cp:coreProperties>
</file>