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comments/comment8.xml" ContentType="application/vnd.openxmlformats-officedocument.presentationml.comments+xml"/>
  <Override PartName="/ppt/comments/comment9.xml" ContentType="application/vnd.openxmlformats-officedocument.presentationml.comments+xml"/>
  <Override PartName="/ppt/comments/comment1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castella" initials="c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<Relationship Id="rId45" Type="http://schemas.openxmlformats.org/officeDocument/2006/relationships/commentAuthors" Target="commentAuthors.xml"/>
</Relationships>
</file>

<file path=ppt/comments/comment19.xml><?xml version="1.0" encoding="utf-8"?>
<p:cmLst xmlns:p="http://schemas.openxmlformats.org/presentationml/2006/main">
  <p:cm authorId="0" dt="2003-10-16T23:38:58.066000000" idx="3">
    <p:pos x="10" y="10"/>
    <p:text>sotto l'espressione e' valutata per assegnare il 
valore alla variabile c</p:text>
  </p:cm>
</p:cmLst>
</file>

<file path=ppt/comments/comment8.xml><?xml version="1.0" encoding="utf-8"?>
<p:cmLst xmlns:p="http://schemas.openxmlformats.org/presentationml/2006/main">
  <p:cm authorId="0" dt="2004-10-12T12:19:49.967000000" idx="1">
    <p:pos x="10" y="10"/>
    <p:text>dire che mi devo agganciare con le fasi di interpretazione.
- es. se l'esecutore e' inglese significa che la modellazione deve essere in lingua inglese</p:text>
  </p:cm>
</p:cmLst>
</file>

<file path=ppt/comments/comment9.xml><?xml version="1.0" encoding="utf-8"?>
<p:cmLst xmlns:p="http://schemas.openxmlformats.org/presentationml/2006/main">
  <p:cm authorId="0" dt="2004-10-12T12:19:49.967000000" idx="2">
    <p:pos x="10" y="10"/>
    <p:text>dire che mi devo agganciare con le fasi di interpretazione.
- es. se l'esecutore e' inglese significa che la modellazione deve essere in lingua ingles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F483-468F-4527-BB27-A2D890A8A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3C75-CC7B-4EFE-B531-F548D8C2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291C-CFDF-4608-BC66-359916080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084F-866C-4C78-92C9-0B5F1A8E3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5A25-D1E3-438D-AB87-95F2C0223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E8B3-2689-4BBD-8433-E9C2D566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5C94-CBEB-4C10-BE8B-A1FDED9B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7E1B-3FCC-42BE-A975-2AA13A91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96FB-605D-41C5-B529-C1C68DF2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E464-48EC-43CE-99CE-586C8BDA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A710-D953-41CB-9E35-D0CCA3F4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9B7C-5B0E-454C-BA7F-F0BB758E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2741-7BF0-478A-8E2A-76408DD5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51FD-BCA1-486D-8835-6A8B7A16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5D0E-CB19-4A5E-A5F1-CFD91007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63E5-4C40-46FE-982F-6CD96A035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F415-DC1D-4CC5-9E0A-AF90560BE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32B7-A981-470C-BDBB-53824069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AA7A-1E30-4CA1-976C-E0DFF677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EF14-DEE8-44D4-B420-F19C611C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6FFB-606E-40B9-BC56-55F853E7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9505-0818-480C-A9D9-9499C4E1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9D5B-1EC1-43FD-91BE-9876381A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8B4A-F873-4767-8FB1-5A347F7A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BE4D-B474-4C38-9F79-712191EF73F0}" type="slidenum"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1EC1-8518-4DD4-AE8F-BA7153170B66}" type="slidenum"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Informatica di bas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19280" y="1988640"/>
            <a:ext cx="8748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66"/>
                </a:solidFill>
                <a:latin typeface="Arial"/>
              </a:rPr>
              <a:t>Lezione 3: Algoritmi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66"/>
                </a:solidFill>
                <a:latin typeface="Arial"/>
              </a:rPr>
              <a:t>Docente: Michele Pian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11080" y="525240"/>
            <a:ext cx="7826040" cy="6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NUTO DELLA LEZIO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1628280"/>
            <a:ext cx="76932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ncetto di algorit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prieta’ degli algoritm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Variabili e tipi di da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appresentazione degli algoritm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gramm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onenti dell’Algoritm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goritmo = istruzioni + strutture da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ariabil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pi di istruzion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ARIABIL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In genere non è interessante risolvere la singola istanza di un problema ma occorre </a:t>
            </a: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generalizz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Es: A=B+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Le istruzioni fanno riferimento a </a:t>
            </a: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variabili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il cui valore può cambiare a seconda della situ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ARIABIL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 variabili sono “contenitori” per i da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gni variabile ha un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om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e la identifica univocam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 variabile assume un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alor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he in ogni istante corrisponde al dato contenuto nella variabi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ARIABIL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In ogni algoritmo i nomi delle variabili sono usati in operazioni di </a:t>
            </a: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assegnamento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Es: r </a:t>
            </a:r>
            <a:r>
              <a:rPr b="0" lang="it-IT" sz="28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pi </a:t>
            </a:r>
            <a:r>
              <a:rPr b="0" lang="it-IT" sz="28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3.1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e compaiono all’interno delle </a:t>
            </a: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espressioni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Es: c </a:t>
            </a:r>
            <a:r>
              <a:rPr b="0" lang="it-IT" sz="28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2 </a:t>
            </a:r>
            <a:r>
              <a:rPr b="0" lang="it-IT" sz="2800" spc="-1" strike="noStrike">
                <a:solidFill>
                  <a:srgbClr val="003366"/>
                </a:solidFill>
                <a:latin typeface="Symbol"/>
                <a:ea typeface="Symbol"/>
              </a:rPr>
              <a:t>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pi </a:t>
            </a:r>
            <a:r>
              <a:rPr b="0" lang="it-IT" sz="2800" spc="-1" strike="noStrike">
                <a:solidFill>
                  <a:srgbClr val="003366"/>
                </a:solidFill>
                <a:latin typeface="Symbol"/>
                <a:ea typeface="Symbol"/>
              </a:rPr>
              <a:t>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UNEDI 5 NOVEMB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N C’E’ LE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11080" y="741240"/>
            <a:ext cx="7826040" cy="6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ARIABILI, 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1483920"/>
            <a:ext cx="7693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Copiare il valore di x in y e il valore di y in 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algoritmo erra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lang="it-IT" sz="28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y </a:t>
            </a:r>
            <a:r>
              <a:rPr b="0" lang="it-IT" sz="28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algoritmo corretto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temp </a:t>
            </a:r>
            <a:r>
              <a:rPr b="0" lang="it-IT" sz="28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y </a:t>
            </a:r>
            <a:r>
              <a:rPr b="0" lang="it-IT" sz="28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lang="it-IT" sz="28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tem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67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RRAY (o VETTORI) – Tipi strutturat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Arial"/>
              </a:rPr>
              <a:t>Es: la temperatura della settiman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Arial"/>
              </a:rPr>
              <a:t>Double T[7]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Arial"/>
              </a:rPr>
              <a:t>T[0]=18; T[1]=20; …T[6]=22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Arial"/>
              </a:rPr>
              <a:t>e’ importante definire la dimension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TRICI – Tipi struttura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Arial"/>
              </a:rPr>
              <a:t>Es: Numero alunni class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Arial"/>
              </a:rPr>
              <a:t>Integer Alunni[5][3] (ho 2 dimensioni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Arial"/>
              </a:rPr>
              <a:t>La prima A ha 25 alunni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Arial"/>
              </a:rPr>
              <a:t>Alunni[1][1]=25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CORD – Tipi struttura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Arial"/>
              </a:rPr>
              <a:t>Es: </a:t>
            </a:r>
            <a:r>
              <a:rPr b="0" i="1" lang="it-IT" sz="3200" spc="-1" strike="noStrike">
                <a:solidFill>
                  <a:srgbClr val="003366"/>
                </a:solidFill>
                <a:latin typeface="Arial"/>
              </a:rPr>
              <a:t>struct</a:t>
            </a:r>
            <a:r>
              <a:rPr b="0" lang="it-IT" sz="3200" spc="-1" strike="noStrike">
                <a:solidFill>
                  <a:srgbClr val="003366"/>
                </a:solidFill>
                <a:latin typeface="Arial"/>
              </a:rPr>
              <a:t> PERSON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3366"/>
                </a:solidFill>
                <a:latin typeface="Arial"/>
              </a:rPr>
              <a:t>String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Nome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3366"/>
                </a:solidFill>
                <a:latin typeface="Arial"/>
              </a:rPr>
              <a:t>String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Cogn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3366"/>
                </a:solidFill>
                <a:latin typeface="Arial"/>
              </a:rPr>
              <a:t>String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Data di nasci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Es: PERSONA Pers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Perso.Nome=“Mario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Perso.Cognome=“Rossi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Perso.Data di nascita= 10/10/197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ATI e VARIABIL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Nei programmi i dati sono modellati attraverso le VARIABIL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Dichiar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Assegnamen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Inizializz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aggiornamen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sempio di algoritmo: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terminare il maggiore di due numeri interi x e 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STRUZION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Strutture condizionali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: quando è presente una condizione logica che può essere </a:t>
            </a:r>
            <a:r>
              <a:rPr b="1" i="1" lang="it-IT" sz="2800" spc="-1" strike="noStrike">
                <a:solidFill>
                  <a:srgbClr val="003366"/>
                </a:solidFill>
                <a:latin typeface="Arial"/>
              </a:rPr>
              <a:t>vera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o </a:t>
            </a:r>
            <a:r>
              <a:rPr b="1" i="1" lang="it-IT" sz="2800" spc="-1" strike="noStrike">
                <a:solidFill>
                  <a:srgbClr val="003366"/>
                </a:solidFill>
                <a:latin typeface="Arial"/>
              </a:rPr>
              <a:t>falsa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(condizioni a </a:t>
            </a:r>
            <a:r>
              <a:rPr b="0" i="1" lang="it-IT" sz="2800" spc="-1" strike="noStrike">
                <a:solidFill>
                  <a:srgbClr val="003366"/>
                </a:solidFill>
                <a:latin typeface="Arial"/>
              </a:rPr>
              <a:t>valori booleani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i="1" lang="it-IT" sz="24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1" lang="it-IT" sz="2400" spc="-1" strike="noStrike">
                <a:solidFill>
                  <a:srgbClr val="003366"/>
                </a:solidFill>
                <a:latin typeface="Courier New"/>
              </a:rPr>
              <a:t> (a&gt;b) </a:t>
            </a:r>
            <a:r>
              <a:rPr b="1" i="1" lang="it-IT" sz="2400" spc="-1" strike="noStrike">
                <a:solidFill>
                  <a:srgbClr val="003366"/>
                </a:solidFill>
                <a:latin typeface="Courier New"/>
              </a:rPr>
              <a:t>then</a:t>
            </a:r>
            <a:r>
              <a:rPr b="1" lang="it-IT" sz="2400" spc="-1" strike="noStrike">
                <a:solidFill>
                  <a:srgbClr val="003366"/>
                </a:solidFill>
                <a:latin typeface="Courier New"/>
              </a:rPr>
              <a:t> max </a:t>
            </a:r>
            <a:r>
              <a:rPr b="1" lang="it-IT" sz="24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1" lang="it-IT" sz="2400" spc="-1" strike="noStrike">
                <a:solidFill>
                  <a:srgbClr val="003366"/>
                </a:solidFill>
                <a:latin typeface="Courier New"/>
              </a:rPr>
              <a:t> 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i="1" lang="it-IT" sz="2400" spc="-1" strike="noStrike">
                <a:solidFill>
                  <a:srgbClr val="003366"/>
                </a:solidFill>
                <a:latin typeface="Courier New"/>
              </a:rPr>
              <a:t>else</a:t>
            </a:r>
            <a:r>
              <a:rPr b="1" lang="it-IT" sz="2400" spc="-1" strike="noStrike">
                <a:solidFill>
                  <a:srgbClr val="003366"/>
                </a:solidFill>
                <a:latin typeface="Courier New"/>
              </a:rPr>
              <a:t> max </a:t>
            </a:r>
            <a:r>
              <a:rPr b="1" lang="it-IT" sz="24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1" lang="it-IT" sz="2400" spc="-1" strike="noStrike">
                <a:solidFill>
                  <a:srgbClr val="003366"/>
                </a:solidFill>
                <a:latin typeface="Courier New"/>
              </a:rPr>
              <a:t> 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STRUZION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11280" y="2204640"/>
            <a:ext cx="8137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Sottoprogrammi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: quando la scomposizione in sottoproblemi genera un numero di passi elevato la soluzione viene rimandata ad un altro problema </a:t>
            </a:r>
            <a:r>
              <a:rPr b="0" i="1" lang="it-IT" sz="2400" spc="-1" strike="noStrike">
                <a:solidFill>
                  <a:srgbClr val="003366"/>
                </a:solidFill>
                <a:latin typeface="Arial"/>
              </a:rPr>
              <a:t>non elementare terminale.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Nei linguaggi di programmazione si parla di sottoprogram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80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Courier New"/>
              </a:rPr>
              <a:t>leggi 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80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Courier New"/>
              </a:rPr>
              <a:t>leggi 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80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Courier New"/>
              </a:rPr>
              <a:t>calcola MAX(A,B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80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Courier New"/>
              </a:rPr>
              <a:t>Stampa MAX(A,B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STRUZION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74560" y="2276640"/>
            <a:ext cx="8569440" cy="43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Strutture iterative o cicli (</a:t>
            </a:r>
            <a:r>
              <a:rPr b="1" i="1" lang="it-IT" sz="2400" spc="-1" strike="noStrike">
                <a:solidFill>
                  <a:srgbClr val="ff0000"/>
                </a:solidFill>
                <a:latin typeface="Arial"/>
              </a:rPr>
              <a:t>loop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):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quando un blocco di istruzioni (o sottoprogramma) viene ripetuto più volt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Sono istruzioni del tipo: “</a:t>
            </a:r>
            <a:r>
              <a:rPr b="0" i="1" lang="it-IT" sz="2400" spc="-1" strike="noStrike">
                <a:solidFill>
                  <a:srgbClr val="003366"/>
                </a:solidFill>
                <a:latin typeface="Arial"/>
              </a:rPr>
              <a:t>finché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condizione </a:t>
            </a:r>
            <a:r>
              <a:rPr b="0" i="1" lang="it-IT" sz="2400" spc="-1" strike="noStrike">
                <a:solidFill>
                  <a:srgbClr val="003366"/>
                </a:solidFill>
                <a:latin typeface="Arial"/>
              </a:rPr>
              <a:t>ripeti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azione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Courier New"/>
              </a:rPr>
              <a:t>P1: leggi 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Courier New"/>
              </a:rPr>
              <a:t>P2: I=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Courier New"/>
              </a:rPr>
              <a:t>P3: finché I&lt;10 cicla fino a P6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Courier New"/>
              </a:rPr>
              <a:t>P4: stampa 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Courier New"/>
              </a:rPr>
              <a:t>P5: I=I+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Courier New"/>
              </a:rPr>
              <a:t>P6: fine cicl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Courier New"/>
              </a:rPr>
              <a:t>P7: sto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IASSUNTO DELLA LEZIONE PRECEDENT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STRUZION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Ingresso/Usci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Stampa 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Aritmetico/logich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Area </a:t>
            </a:r>
            <a:r>
              <a:rPr b="0" lang="it-IT" sz="24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pi*r</a:t>
            </a:r>
            <a:r>
              <a:rPr b="0" lang="it-IT" sz="24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Istruzioni di controll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Se Val &lt; Min allora Min </a:t>
            </a:r>
            <a:r>
              <a:rPr b="0" lang="it-IT" sz="2400" spc="-1" strike="noStrike">
                <a:solidFill>
                  <a:srgbClr val="003366"/>
                </a:solidFill>
                <a:latin typeface="Symbol"/>
                <a:ea typeface="Symbol"/>
              </a:rPr>
              <a:t>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V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Strutture Iterative o cicl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Fintantochè I&lt;N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GRAMM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Un algoritmo non è ancora utilizzabile dall’esecutore automatico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ono stati definiti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inguaggi di programmazione di “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alto livello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GRAMMA definizio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26920" y="2276280"/>
            <a:ext cx="76932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3366"/>
                </a:solidFill>
                <a:latin typeface="Arial"/>
              </a:rPr>
              <a:t>Un programma è una successione di istruzioni, che mediante un opportuno programma di traduzione possono essere trasformate in istruzioni in linguaggio macchina (“basso livello”) direttamente eseguibili dal calcolato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rial"/>
              </a:rPr>
              <a:t>Es di linguaggi di programmazion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rial"/>
              </a:rPr>
              <a:t>C, C++, Java, Pascal, Basic,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 et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IFERIMENTI AL LIBR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zioni 1 e 2 (dati e informazion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Cap. 3 Introdu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Paragrafo 3.1 Introdu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68360" y="4005360"/>
            <a:ext cx="5472360" cy="230508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8000" y="2060640"/>
            <a:ext cx="5472000" cy="230508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ASI DELLA SOLUZIONE DEL PROBLEM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4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NALISI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SCRI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074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TERPRETAZION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074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5040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TTUAZION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200" y="3933720"/>
            <a:ext cx="3097440" cy="581400"/>
          </a:xfrm>
          <a:prstGeom prst="rect">
            <a:avLst/>
          </a:prstGeom>
          <a:solidFill>
            <a:srgbClr val="00ff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ssere Umano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72360" y="5734080"/>
            <a:ext cx="2520720" cy="5814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alcolator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IFERIMENTI AL LIBR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zione 3 (algoritmi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Paragrafi 3.1.1; 3.1.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Paragrafi 3.3; 3.3.1; 3.3.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tri esempi di algoritm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un editor di testi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goritmo per il controllo ortografic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goritmo per il conteggio paro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goritmo per sostituire una parol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ASI DELLA SOLUZIONE DEL PROBLEM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10920" y="2435400"/>
            <a:ext cx="8055000" cy="37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problemi vengono scomposti in sottoproblem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blemi elementari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zioni elementar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zione elementare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zione che può essere direttamente compiuta dall’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esecuto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ASI DELLA SOLUZIONE DEL PROBLEM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10920" y="2435400"/>
            <a:ext cx="8055000" cy="37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Un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secutore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è caratterizzato da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l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inguaggi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he è in grado di interpret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’insieme dell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zion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he è in grado di compie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’insieme dell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go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he a ogni costrutto linguistico sintatticamente corretto associano le relative azioni da compie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6T21:17:17Z</dcterms:created>
  <dc:creator>castella</dc:creator>
  <dc:description/>
  <dc:language>en-US</dc:language>
  <cp:lastModifiedBy>piana</cp:lastModifiedBy>
  <dcterms:modified xsi:type="dcterms:W3CDTF">2007-10-12T12:23:09Z</dcterms:modified>
  <cp:revision>137</cp:revision>
  <dc:subject/>
  <dc:title>Lezione 2: integrazione</dc:title>
</cp:coreProperties>
</file>