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17.xml" ContentType="application/vnd.openxmlformats-officedocument.presentationml.comments+xml"/>
  <Override PartName="/ppt/comments/comment4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castella" initials="c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<Relationship Id="rId53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04-11-02T11:05:05.011000000" idx="1">
    <p:pos x="10" y="10"/>
    <p:text>Esempio di scalabilita': espansione della memoria</p:text>
  </p:cm>
</p:cmLst>
</file>

<file path=ppt/comments/comment43.xml><?xml version="1.0" encoding="utf-8"?>
<p:cmLst xmlns:p="http://schemas.openxmlformats.org/presentationml/2006/main">
  <p:cm authorId="0" dt="2004-05-31T17:21:15.728000000" idx="2">
    <p:pos x="10" y="10"/>
    <p:text>MGL= memoria grossa e lenta
MPV = memoria piccola e veloc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5DA5-7C6D-4375-9CC8-49F390EA3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FB1-2742-4642-B91E-EB6FF02D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1587-7419-4056-AA86-FC349DA1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B0A-89FF-46B4-9F38-8E5C26B5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2FC-A78A-4145-A7C0-B696898A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17AD-B550-4FC7-B244-EF5F223C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C301-8345-4567-BFB9-E7A74C6D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DAA1-F8C8-44DD-8B34-0D11C348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885D-F47D-4827-BA3F-AAA0A473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E8A4-92FE-4A44-A107-EEF4E05F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816B-9560-4BF3-BC9E-2F623381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489A-B9B8-43D1-AB9A-93ACD0F4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76D-16DF-4AE5-AEC3-58111EAB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5546-2D3F-468C-A098-8A6E89DB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9164-0E29-47B9-9FC1-997370C4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1C52-2757-4278-B619-E03AEC46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94BB-CE2B-4F05-9DD7-36E43B6E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8775-7694-4179-81D1-34E8B29B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7372-43AE-4696-8E8D-6A0DB51F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532-9A31-4DD2-AF12-484B3918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480-42DF-49EC-80D3-4ACEF178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485-E5BF-4D73-BDE1-D7FE0167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62B-847B-4125-8891-704DB015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581-8445-46A2-919E-7E3C3758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2096-695B-422B-8798-7A1ECDC7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80CA-FD05-491E-92E6-75AC9554B323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61DF-E27A-43E8-8EF1-59835C317D10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6000" y="1989000"/>
            <a:ext cx="8748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66"/>
                </a:solidFill>
                <a:latin typeface="Arial"/>
              </a:rPr>
              <a:t>Lezione 5: Strutture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66"/>
                </a:solidFill>
                <a:latin typeface="Arial"/>
              </a:rPr>
              <a:t>Docente: Michele Pi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serimento di iperte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ML permette di definire documenti a struttura ipertestuale: il tag &lt;A&gt; permette di inserire anchor poi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UTO DELLA LE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unzioni di un calcolat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dello concettu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dello architettur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- Scheda mad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- B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- CP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- Memo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zioni del Calcolatore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21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laborazione dei dati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: il calcolatore elabora i dati proveniente dall’ambiente esterno per fornire all’ambiente stesso i risultati ottenuti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ipo di applicazione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rchitettu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e architetture attuali son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enerali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365720"/>
            <a:ext cx="503280" cy="288720"/>
          </a:xfrm>
          <a:prstGeom prst="leftRightArrow">
            <a:avLst>
              <a:gd name="adj1" fmla="val 50000"/>
              <a:gd name="adj2" fmla="val 34701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zioni del Calcolatore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morizzazione dei dati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 breve periodo per salvare i dati di elaborazione intermedi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 lungo periodo per immagazzinare i dati (archivi elettronici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zioni del Calcolatore 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3-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Trasferimento dei dati</a:t>
            </a: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Un calcolatore deve essere in grado di comunicare con l’esterno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Operazioni di </a:t>
            </a:r>
            <a:r>
              <a:rPr b="0" i="1" lang="it-IT" sz="3200" spc="-1" strike="noStrike">
                <a:solidFill>
                  <a:srgbClr val="ff0000"/>
                </a:solidFill>
                <a:latin typeface="Arial"/>
              </a:rPr>
              <a:t>Input/Outpu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Si usano le </a:t>
            </a:r>
            <a:r>
              <a:rPr b="1" i="1" lang="it-IT" sz="3200" spc="-1" strike="noStrike">
                <a:solidFill>
                  <a:srgbClr val="ff0000"/>
                </a:solidFill>
                <a:latin typeface="Arial"/>
              </a:rPr>
              <a:t>periferich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Es: collegamento in re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zioni del Calcolatore 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4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trollo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ntrollo da parte dell’uten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ntrollo interno tramite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unità di controll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zioni e architet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Per ognuna delle funzioni di base svolte dal calcolatore si possono prendere in esame relativi componenti fisici (HW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Arial"/>
              </a:rPr>
              <a:t>Macchina di Von Neuman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UNEDI 6 NOVEMB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 C’E’ LE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gamento tra unità: B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l bus consente il trasferimento tra le unità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a CPU controlla in maniera centralizzata la gestione dell’ intero sistema (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master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ncronism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US: componen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us dati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: usato per trasferire i dati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us indirizzi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: identifica la posizione delle celle di memoria in cui la CPU scrive o legg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us di controllo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: coordinamento del sistema (connessioni, direzione di scambio, selezione unità coinvolt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o a qu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PERTE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Ipertesto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i="1" lang="it-IT" sz="2800" spc="-1" strike="noStrike">
                <a:solidFill>
                  <a:srgbClr val="003366"/>
                </a:solidFill>
                <a:latin typeface="Arial"/>
              </a:rPr>
              <a:t>documento la cui struttura di consultazione non è lineare cioè tale che le parti di cui è logicamente costituito sono organizzate in successione ma secondo una struttura comples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a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Sequenzial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a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Random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i="1" lang="it-IT" sz="2800" spc="-1" strike="noStrike">
                <a:solidFill>
                  <a:srgbClr val="003366"/>
                </a:solidFill>
                <a:latin typeface="Arial"/>
              </a:rPr>
              <a:t>Interattività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GISTR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8126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PC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(Progam Counter): indica la prossima istruzione da eseguire specificando la sua posizione (indirizzo) in memori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IR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(Instruction Register): contiene una copia dell’istruzione da esegui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MAR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(Memory Address Register): contiene l’indirizzo di memoria ove estrarre o trascrivere un dato ed è direttamente collegato al bus indirizz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MDR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(Memory Data Register): contiene una copia del dato da trascrivere o estrarre dalla memoria ed è direttamente collegato al bus dat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PSW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(Processor Status Word): contiene informazioni sulle condizioni verificatesi in seguito all’esecuzione.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PU e linguaggio macchi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inguaggio macchina o </a:t>
            </a: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assemb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struzioni rudimentali (pochi operandi, poche istruzioni di base disponibili,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a programmazione in assembly richiede una conoscenza approfondita della architettura specifica su cui si sta lavorand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difica binaria (identificazione dell’istruzione, indirizzi operandi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ECU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349000"/>
            <a:ext cx="8055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e operazioni di esecuzione dipendono dall’istru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Trasferimento dati tra CPU e memoria centr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Trasferimento dati tra CPU e interfacce di I/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laborazione dei dati: la CPU esegue operazioni aritmentico-logic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ntrollo del flusso (Es: modifica della sequenza di esecuzion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OCK e FREQUENZ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2349000"/>
            <a:ext cx="8055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’unità di controllo comanda il funzionamento della CPU tramite l’emissione di segnal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Occorre temporizzare gli even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Uso di un orologio (clock) che fornisce una cadenza temporale a cui tutte le attività elementari sono sincronizz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a frequenza del clock determina dunque il numero di attività elementari per unità di tempo (hertz o MegaHertz – M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PERTE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No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nchor point (punti di aggancio) – link o hyperli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i solito sono attivati da un click del mouse (</a:t>
            </a:r>
            <a:r>
              <a:rPr b="0" i="1" lang="it-IT" sz="2800" spc="-1" strike="noStrike">
                <a:solidFill>
                  <a:srgbClr val="003366"/>
                </a:solidFill>
                <a:latin typeface="Arial"/>
              </a:rPr>
              <a:t>point and click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IFERIMENTI AL LIB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 pag. 137 a pag. 17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. B.: saltate da pag. 159 a pag. 162 (meta’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AMI - 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0 doman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e risposte per domanda, una sola gius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 punto per ogni risposta giusta; zero per ogni risposta sbagliata; zero per ogni risposta non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mpo a disposizione: 1 o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e: 10/01/06; 31/01/06; 14/02/06; 06/06/06; 27/06/06; 05/09/0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ario: 11: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gistrazione: 21/02/06 (dalle ore 09:00); 27/06/06 (dalle ore 12:00); 03/10/06 (dalle ore 1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AMI -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3160" y="2365200"/>
            <a:ext cx="8718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3366"/>
                </a:solidFill>
                <a:uFillTx/>
                <a:latin typeface="Arial"/>
              </a:rPr>
              <a:t>NON SONO AMMESSE ALL’ESAME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3366"/>
                </a:solidFill>
                <a:uFillTx/>
                <a:latin typeface="Arial"/>
              </a:rPr>
              <a:t>LE PERSONE CHE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3366"/>
                </a:solidFill>
                <a:uFillTx/>
                <a:latin typeface="Arial"/>
              </a:rPr>
              <a:t>NON SI SONO ISCRITTE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PERTE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Multimedi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mmagi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uo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Vide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ogrammi (scrip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istribui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Giace su più calcolatori (es: Wolrd Wide Web  o WWW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PERTESTI: HTM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HyperText Markup Languag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È il linguaggio per creare ipertesti multimediali interativi e distributiti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HyperText Markup Language (HTML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’ il formato dei file che realizzano un ipertes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Un file HTML contiene sia del testo, che deve essere visualizzato come tale, sia le istruzioni dette </a:t>
            </a:r>
            <a:r>
              <a:rPr b="0" i="1" lang="it-IT" sz="2800" spc="-1" strike="noStrike">
                <a:solidFill>
                  <a:srgbClr val="ff0000"/>
                </a:solidFill>
                <a:latin typeface="Arial"/>
              </a:rPr>
              <a:t>markup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o </a:t>
            </a:r>
            <a:r>
              <a:rPr b="0" i="1" lang="it-IT" sz="2800" spc="-1" strike="noStrike">
                <a:solidFill>
                  <a:srgbClr val="ff0000"/>
                </a:solidFill>
                <a:latin typeface="Arial"/>
              </a:rPr>
              <a:t>ta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Ogni tag HTML è identificato da un nome che viene scritto nel file delimitandolo da parentesi angolar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badi MT Condensed"/>
              </a:rPr>
              <a:t>&lt;</a:t>
            </a:r>
            <a:r>
              <a:rPr b="0" i="1" lang="it-IT" sz="2400" spc="-1" strike="noStrike">
                <a:solidFill>
                  <a:srgbClr val="003366"/>
                </a:solidFill>
                <a:latin typeface="Abadi MT Condensed"/>
              </a:rPr>
              <a:t>nometag</a:t>
            </a:r>
            <a:r>
              <a:rPr b="0" lang="it-IT" sz="2400" spc="-1" strike="noStrike">
                <a:solidFill>
                  <a:srgbClr val="003366"/>
                </a:solidFill>
                <a:latin typeface="Abadi MT Condensed"/>
              </a:rPr>
              <a:t>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Tag - esemp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badi MT Condensed"/>
              </a:rPr>
              <a:t>Questo  &lt;BR&gt;è un &lt;P&gt;esemp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es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è u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emp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serimento di Immagin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E’ possibile inserire un immagine (memorizzata su un file) in un documento HTM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badi MT Condensed"/>
              </a:rPr>
              <a:t>Questa&lt;IMG SRC=“immagine.gif”&gt; è un’immag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he produc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Questa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 è un’immag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86120" y="487692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21:17:17Z</dcterms:created>
  <dc:creator>castella</dc:creator>
  <dc:description/>
  <dc:language>en-US</dc:language>
  <cp:lastModifiedBy>piana</cp:lastModifiedBy>
  <dcterms:modified xsi:type="dcterms:W3CDTF">2006-10-30T17:35:16Z</dcterms:modified>
  <cp:revision>116</cp:revision>
  <dc:subject/>
  <dc:title>Lezione 2: integrazione</dc:title>
</cp:coreProperties>
</file>