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28.xml" ContentType="application/vnd.openxmlformats-officedocument.presentationml.comments+xml"/>
  <Override PartName="/ppt/comments/comment31.xml" ContentType="application/vnd.openxmlformats-officedocument.presentationml.comments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astella" initials="c" lastIdx="8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4-10-12T11:50:48.393000000" idx="5">
    <p:pos x="10" y="10"/>
    <p:text>-l'analisi comporta:
	-l'identificazione del problema
	- l'identificazione degli obiettivi
	-la fomalizzazione del problema:
		-schematizzazione
		-modellazione
- con la descrizione si arriva ad una forma 'simbolica' della soluzione del problema
- l'interpretazione deve partrire dalla rappresentazione 'simbolica' , capirne il significato
-con l'attuazione si esegue concretamente il problema e si arriva al risultato (OUTPUT)</p:text>
  </p:cm>
</p:cmLst>
</file>

<file path=ppt/comments/comment28.xml><?xml version="1.0" encoding="utf-8"?>
<p:cmLst xmlns:p="http://schemas.openxmlformats.org/presentationml/2006/main">
  <p:cm authorId="0" dt="2004-10-12T12:19:49.967000000" idx="6">
    <p:pos x="10" y="10"/>
    <p:text>dire che mi devo agganciare con le fasi di interpretazione.
- es. se l'esecutore e' inglese significa che la modellazione deve essere in lingua inglese</p:text>
  </p:cm>
</p:cmLst>
</file>

<file path=ppt/comments/comment31.xml><?xml version="1.0" encoding="utf-8"?>
<p:cmLst xmlns:p="http://schemas.openxmlformats.org/presentationml/2006/main">
  <p:cm authorId="0" dt="2004-10-12T12:19:49.967000000" idx="7">
    <p:pos x="10" y="10"/>
    <p:text>dire che mi devo agganciare con le fasi di interpretazione.
- es. se l'esecutore e' inglese significa che la modellazione deve essere in lingua inglese</p:text>
  </p:cm>
</p:cmLst>
</file>

<file path=ppt/comments/comment32.xml><?xml version="1.0" encoding="utf-8"?>
<p:cmLst xmlns:p="http://schemas.openxmlformats.org/presentationml/2006/main">
  <p:cm authorId="0" dt="2004-10-12T12:19:49.967000000" idx="8">
    <p:pos x="10" y="10"/>
    <p:text>dire che mi devo agganciare con le fasi di interpretazione.
- es. se l'esecutore e' inglese significa che la modellazione deve essere in lingua inglese</p:text>
  </p:cm>
</p:cmLst>
</file>

<file path=ppt/comments/comment5.xml><?xml version="1.0" encoding="utf-8"?>
<p:cmLst xmlns:p="http://schemas.openxmlformats.org/presentationml/2006/main">
  <p:cm authorId="0" dt="2004-10-12T11:47:36.067000000" idx="1">
    <p:pos x="10" y="10"/>
    <p:text>specificare che occorre RISOlLVERE PROBLEMI
- il problema si risolve avendo i dati e sapendo cosa
risolvere
- ci sono diverse fasi
- ci sono diversi soggetti</p:text>
  </p:cm>
</p:cmLst>
</file>

<file path=ppt/comments/comment6.xml><?xml version="1.0" encoding="utf-8"?>
<p:cmLst xmlns:p="http://schemas.openxmlformats.org/presentationml/2006/main">
  <p:cm authorId="0" dt="2004-10-12T11:50:48.393000000" idx="2">
    <p:pos x="10" y="10"/>
    <p:text>-l'analisi comporta:
	-l'identificazione del problema
	- l'identificazione degli obiettivi
	-la fomalizzazione del problema:
		-schematizzazione
		-modellazione
- con la descrizione si arriva ad una forma 'simbolica' della soluzione del problema
- l'interpretazione deve partrire dalla rappresentazione 'simbolica' , capirne il significato
-con l'attuazione si esegue concretamente il problema e si arriva al risultato (OUTPUT)</p:text>
  </p:cm>
</p:cmLst>
</file>

<file path=ppt/comments/comment7.xml><?xml version="1.0" encoding="utf-8"?>
<p:cmLst xmlns:p="http://schemas.openxmlformats.org/presentationml/2006/main">
  <p:cm authorId="0" dt="2004-10-12T11:50:48.393000000" idx="3">
    <p:pos x="10" y="10"/>
    <p:text>-l'analisi comporta:
	-l'identificazione del problema
	- l'identificazione degli obiettivi
	-la fomalizzazione del problema:
		-schematizzazione
		-modellazione
- con la descrizione si arriva ad una forma 'simbolica' della soluzione del problema
- l'interpretazione deve partrire dalla rappresentazione 'simbolica' , capirne il significato
-con l'attuazione si esegue concretamente il problema e si arriva al risultato (OUTPUT)</p:text>
  </p:cm>
</p:cmLst>
</file>

<file path=ppt/comments/comment8.xml><?xml version="1.0" encoding="utf-8"?>
<p:cmLst xmlns:p="http://schemas.openxmlformats.org/presentationml/2006/main">
  <p:cm authorId="0" dt="2004-10-12T11:47:36.067000000" idx="4">
    <p:pos x="10" y="10"/>
    <p:text>specificare che occorre RISOlLVERE PROBLEMI
- il problema si risolve avendo i dati e sapendo cosa
risolvere
- ci sono diverse fasi
- ci sono diversi soggetti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9EE-D0F8-4D25-9F3A-D4B9C5C4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87C-F0C3-42DA-ADE0-94269E87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9B7-EF45-4BD4-A43A-E430AAFD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922-FABE-4B4B-B966-02045943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2BBD-BF43-4968-A7A6-A4841B90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C334-6C14-4BE1-BD2D-FF220AC9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D007-3E5E-4862-B7DA-D80E96E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979-C6BD-4A23-8650-E9CBA23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A6C2-0DB4-4937-8192-A4828149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9AAC-1B9F-46FA-AF79-AC6BE652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A619-0D25-4DB5-8282-DD36D069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938-34A9-487A-BFCE-A5F6F88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4834-9FED-4BD1-BBCD-A55F6798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E9D1-5D9E-4EC2-912B-2304EF5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EA42-0FA4-488D-981F-59A17D49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3385-5A39-4D71-B970-31585B26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0F3C-C555-428B-9D62-E62183B8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280-8075-4801-8844-530FA097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195-0CCE-4D82-A161-D8EBA0D3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7DD-9E33-44A6-BE98-8399FF07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89C-2498-4DFD-A5CD-DA9CF183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A76-4639-4F6F-A563-AC30983E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3BD-6462-46CF-A522-4BE2157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42B-25E3-4470-81CB-139D17D8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6D13-D74D-4D84-851E-25751182BD19}" type="datetime"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0F3A-9CDE-4939-8E61-DDDCE686F853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E76-B277-40F4-8989-8AB6E653BF1D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9686-2A17-4AA7-A2E2-0D6C8E979043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formatica di base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19280" y="1989000"/>
            <a:ext cx="8748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Lezione 2: La formalizzazione dell’Informazion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Arial"/>
              </a:rPr>
              <a:t>Docente: Michele Pia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ichele.piana@univr.i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8EAC-4D41-45B6-B5AC-03579ACB10F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5487F8-9AB1-46D3-943A-CE4858A7FB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aborazione delle informa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dat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i parte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risultat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rc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FID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aggiungere il risultato cercato dai dati di partenz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821-33BF-4535-B458-A9CC4F98A56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415C9-2ABA-463A-B91E-50BAD88E90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ALIS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PRE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04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U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29A-891A-4BD6-85FF-A6C667672F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129C9-0669-4CC8-AF01-6B6AD22807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68360" y="4005360"/>
            <a:ext cx="5472360" cy="230508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00" y="2060640"/>
            <a:ext cx="5472000" cy="2305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ALIS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PRE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04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U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149720"/>
            <a:ext cx="2232000" cy="368280"/>
          </a:xfrm>
          <a:prstGeom prst="rect">
            <a:avLst/>
          </a:prstGeom>
          <a:solidFill>
            <a:srgbClr val="33cccc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ggetto 1:proget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86440"/>
            <a:ext cx="2808360" cy="3682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ggetto 2: esecu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5BB-130A-4F09-B8DC-C82797E68F5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60337-D51D-42E9-9EB3-B461DEF8DD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68360" y="4005360"/>
            <a:ext cx="5472360" cy="23050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2060640"/>
            <a:ext cx="5472000" cy="230508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ALIS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PRE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04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TTU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200" y="3933720"/>
            <a:ext cx="3097440" cy="581400"/>
          </a:xfrm>
          <a:prstGeom prst="rect">
            <a:avLst/>
          </a:prstGeom>
          <a:solidFill>
            <a:srgbClr val="00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sere Uman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72360" y="5734080"/>
            <a:ext cx="252072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olato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6A2-BC04-4B12-A488-47D501D58CC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659AF-5B9E-4EBA-BB74-A15CB24B46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1CC-DBF8-4A81-9ED4-8076CDD0748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DA57B-05D1-4ED7-AE51-62B66C2BE2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921-5147-4B62-8925-E4DC473C444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ABAED-F1FC-43B6-8009-40503E5CF2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ECB-3FFC-4DB4-A31E-9CB25DABC2D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FDC80-C524-4CB4-ACD3-D18089C6E2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DAF-EC41-4F7D-B814-58BB6B568228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A621B-B49D-4BC9-8635-BE6F396DF0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29D-1985-42E5-877C-F4D631ED0E2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0E321-58D7-4FDA-9647-9223CBC85D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’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ecuto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è caratterizzabile in base alla sua capacità d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pretazion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tu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lcolator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ono esecutori di soluzioni che esseri umani hanno previamen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icat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nalizzato) 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cri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56F-F193-4E25-93B3-C619E97A3EC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9FA8F-8CED-4AE7-A9B9-01D7253B0D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ASSUNTO DELLA LEZIONE PRECED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20B-0A82-4F94-BE0A-6D46419EB8B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945A2-5EEE-44F7-8137-92CD5F81F6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L PROBLEMA ALL’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ALGORITM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modellazione del problema porta alla definizione di un 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ALGORITMO 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er la sua sol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bu Ja’fa Mohamed ibn Musa al-Khowarizm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L’arte di numerare ed ordinare le parti in tutt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Bagdad IX seco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0DC-BBB1-494F-A338-C07D5E06449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7D77-714E-4E8A-892A-A16B400B38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F77B-D93F-49CF-A110-47034C523E3C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26379-5356-4C39-A79B-45D6F1E7D2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564-2ACF-46CF-90BF-4A5C2C9080A1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DAD7D-7645-4017-B5AF-55BC507F92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2AF-3A8E-4489-AB2A-05FB8A6528AB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B8992-7EC4-4630-AEF2-C8F35EEAA9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098-3ECF-4EC0-A0EA-4187127510FB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E9570-DF72-45B2-A9EA-2CF3F659A8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60E-C7E8-40C1-A888-62E5AC0A7257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6417A-FAB6-41F1-A3EC-508278E138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D76-B4A9-4B1C-A928-6A1A7E1AB660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0BD03-4EC5-43A0-A332-9E594DFCE9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ri esempi di algorit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un editor di test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itmo per il controllo ortograf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itmo per il conteggio paro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goritmo per sostituire una pa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C48-93B0-4B13-8D45-9D583E2F83F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1164F-3C1C-495C-ADE2-1267221351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 - 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0920" y="2435400"/>
            <a:ext cx="8055000" cy="37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problemi vengono scomposti in sottoproble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blemi elementar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zioni elementa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zione elementar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zione che può essere direttamente compiuta dall’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secu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935-589E-42F3-B7A4-06115C7ADD0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B9F57-56AA-424A-AD48-5D59EA69C7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2BA-91E7-49BC-B7C8-BFED92436DE0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27329-4DE3-49AA-BFDE-7279A9F8A9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ETTI BAS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0840" y="3068640"/>
            <a:ext cx="85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zione: cio’ che consente di comprend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modo piu’ o meno esatto, un fatto, un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tuazione o un modo di ess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9040" y="1844640"/>
            <a:ext cx="780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o: cio’ che e’ immediatamente 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a conoscenza, prima di ogni elabor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8680" y="4797360"/>
            <a:ext cx="80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tica: studio della conservazione, d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aborazione e della rappresen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2CED-4F41-4702-A211-1FFBDAED66B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0100950-FBAD-4801-9FEF-1135B6E8ED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473-1363-4103-8430-8BA2EBFC57C2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298D9-F7F3-4679-8582-A4850A899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CUT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0920" y="2435400"/>
            <a:ext cx="8055000" cy="37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ecutor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è caratterizzato da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nguaggi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è in grado di interpret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’insieme del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zion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è in grado di compi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’insieme del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go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a ogni costrutto linguistico sintatticamente corretto associano le relative azioni da compi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1A3-C1A1-4A55-9521-0A64B01EE12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54428-E312-4FF3-A748-3F9D5530AD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533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do l’esecutore è il calcolatore l’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goritm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ve prendere la forma di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gramma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insieme di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zioni elementar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seguibili dal calcolato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isi e identificazione di una solu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alizzazione della soluzione e definizione dell’algorit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rogrammazio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vvero scrittura di un programma attraverso u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nguaggio di programm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uzione d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nguaggio di programmazion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nguaggio macch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8EF-9F45-4478-BC43-1AC32D1CC7F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BBCF6-48A9-4D51-93E2-338728F9B7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NTASSI E SEMAN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 linguaggio di programmazione esprime un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lgoritm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una forma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interpretabi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al calcolat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 linguaggio di programmazione e’ caratterizzato d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ntass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insieme di regole che specificano come comporre istruzioni ben form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mantic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insieme di regole per associare i costrutti del linguaggio alle azio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075-3826-4869-82FD-C09CBF8F8E80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06DEF-1E6D-46F3-A7C8-4253EDBB7A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DATI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6920" y="1700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Mario 5282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17240" y="227664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no du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ati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u un foglio di ca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4120" y="3068640"/>
            <a:ext cx="829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 il foglio di carta viene fornito in rispo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a domand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chi mi devo rivolgere per  questo problema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 e’ il suo numero di telefono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6680" y="5573880"/>
            <a:ext cx="68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ora i due dati diventano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F0A-9796-46C9-9BF6-BEC0AA68E75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CF316-C980-456A-B1DD-6554546D0316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7040" y="2693880"/>
            <a:ext cx="77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sa significa: “Societa’ dell’Informazione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60D-540A-42E3-BD60-CA5312B04BD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64784-C8EC-4B1F-BC8E-55977167D0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06400" y="66492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IZIONI - 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7760" y="1700280"/>
            <a:ext cx="865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evoluzione economico-industriale della societa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ccidentale puo’ essere interpretata secondo t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as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4880" y="3573360"/>
            <a:ext cx="82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re-industriale: gestione della mate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240" y="4494240"/>
            <a:ext cx="74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industriale: gestione dell’ener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960" y="5516640"/>
            <a:ext cx="63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ost-industriale: gest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CEF-2BC9-43BC-AB4C-435FF8A0E7B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0C4DB-5411-44CE-A0A6-9F88C90AED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99920" y="598320"/>
            <a:ext cx="78260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IZIONI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8640" y="1546200"/>
            <a:ext cx="896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 reti rappresentano uno strumento indispensab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 lo sviluppo della societa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640" y="2852640"/>
            <a:ext cx="77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re-industriale: reti per il traspor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 materie (strade, acquedotti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6520" y="4076640"/>
            <a:ext cx="88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industriale: reti per il trasport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energia (gasdotti, reti elettriche, petrolifer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960" y="5516640"/>
            <a:ext cx="80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ost-industriale: reti per il traspor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informazione (reti telefoniche, internet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69E-AA82-4879-99EA-63084222F06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86AD5-DD2B-47AF-B085-4E82368B10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09280" y="74628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SPOSTA AL PROBLEMA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6840" y="2133720"/>
            <a:ext cx="82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 societa’ dell’informazione e’ la societa’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i la gestione dell’informazione e le reti p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trasporto dell’informazione svolgono un ruo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im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01760" y="4797360"/>
            <a:ext cx="63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dell’informazione e societa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t-industriale sono sinoni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501-4D71-4645-BFC4-7B85D48D8CE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C62F9-5C88-4BDF-A7D8-84E2699A80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concetto di 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3D8-4EE0-401F-9D79-7F4F60A4E71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F3738-98E3-4BBC-AED9-7B7F9C9280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6-10-03T17:53:01Z</dcterms:modified>
  <cp:revision>104</cp:revision>
  <dc:subject/>
  <dc:title>Lezione 2: integrazione</dc:title>
</cp:coreProperties>
</file>