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comments/comment24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21.xml" ContentType="application/vnd.openxmlformats-officedocument.presentationml.comments+xml"/>
  <Override PartName="/ppt/comments/comment19.xml" ContentType="application/vnd.openxmlformats-officedocument.presentationml.comments+xml"/>
  <Override PartName="/ppt/comments/comment20.xml" ContentType="application/vnd.openxmlformats-officedocument.presentationml.comments+xml"/>
  <Override PartName="/ppt/comments/comment18.xml" ContentType="application/vnd.openxmlformats-officedocument.presentationml.comments+xml"/>
  <Override PartName="/ppt/comments/comment17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29.xml" ContentType="application/vnd.openxmlformats-officedocument.presentationml.comments+xml"/>
  <Override PartName="/ppt/comments/comment28.xml" ContentType="application/vnd.openxmlformats-officedocument.presentationml.comments+xml"/>
  <Override PartName="/ppt/comments/comment32.xml" ContentType="application/vnd.openxmlformats-officedocument.presentationml.comments+xml"/>
  <Override PartName="/ppt/comments/comment27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31.xml" ContentType="application/vnd.openxmlformats-officedocument.presentationml.comments+xml"/>
  <Override PartName="/ppt/comments/comment26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30.xml" ContentType="application/vnd.openxmlformats-officedocument.presentationml.comments+xml"/>
  <Override PartName="/ppt/comments/comment25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3.xml" ContentType="application/vnd.openxmlformats-officedocument.presentationml.comments+xml"/>
  <Override PartName="/ppt/comments/comment2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astella" initials="c" lastIdx="2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<Relationship Id="rId37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04-10-12T11:47:36.067000000" idx="2">
    <p:pos x="10" y="10"/>
    <p:text>specificare che occorre RISOlLVERE PROBLEMI
- il problema si risolve avendo i dati e sapendo cosa
risolvere
- ci sono diverse fasi
- ci sono diversi soggetti</p:text>
  </p:cm>
</p:cmLst>
</file>

<file path=ppt/comments/comment14.xml><?xml version="1.0" encoding="utf-8"?>
<p:cmLst xmlns:p="http://schemas.openxmlformats.org/presentationml/2006/main">
  <p:cm authorId="0" dt="2004-10-12T11:50:48.393000000" idx="3">
    <p:pos x="10" y="10"/>
    <p:text>-l'analisi comporta:
	-l'identificazione del problema
	- l'identificazione degli obiettivi
	-la fomalizzazione del problema:
		-schematizzazione
		-modellazione
- con la descrizione si arriva ad una forma 'simbolica' della soluzione del problema
- l'interpretazione deve partrire dalla rappresentazione 'simbolica' , capirne il significato
-con l'attuazione si esegue concretamente il problema e si arriva al risultato (OUTPUT)</p:text>
  </p:cm>
</p:cmLst>
</file>

<file path=ppt/comments/comment15.xml><?xml version="1.0" encoding="utf-8"?>
<p:cmLst xmlns:p="http://schemas.openxmlformats.org/presentationml/2006/main">
  <p:cm authorId="0" dt="2004-10-12T11:50:48.393000000" idx="4">
    <p:pos x="10" y="10"/>
    <p:text>-l'analisi comporta:
	-l'identificazione del problema
	- l'identificazione degli obiettivi
	-la fomalizzazione del problema:
		-schematizzazione
		-modellazione
- con la descrizione si arriva ad una forma 'simbolica' della soluzione del problema
- l'interpretazione deve partrire dalla rappresentazione 'simbolica' , capirne il significato
-con l'attuazione si esegue concretamente il problema e si arriva al risultato (OUTPUT)</p:text>
  </p:cm>
</p:cmLst>
</file>

<file path=ppt/comments/comment16.xml><?xml version="1.0" encoding="utf-8"?>
<p:cmLst xmlns:p="http://schemas.openxmlformats.org/presentationml/2006/main">
  <p:cm authorId="0" dt="2004-10-12T11:47:36.067000000" idx="5">
    <p:pos x="10" y="10"/>
    <p:text>specificare che occorre RISOlLVERE PROBLEMI
- il problema si risolve avendo i dati e sapendo cosa
risolvere
- ci sono diverse fasi
- ci sono diversi soggetti</p:text>
  </p:cm>
</p:cmLst>
</file>

<file path=ppt/comments/comment17.xml><?xml version="1.0" encoding="utf-8"?>
<p:cmLst xmlns:p="http://schemas.openxmlformats.org/presentationml/2006/main">
  <p:cm authorId="0" dt="2004-10-12T11:47:36.067000000" idx="6">
    <p:pos x="10" y="10"/>
    <p:text>specificare che occorre RISOlLVERE PROBLEMI
- il problema si risolve avendo i dati e sapendo cosa
risolvere
- ci sono diverse fasi
- ci sono diversi soggetti</p:text>
  </p:cm>
</p:cmLst>
</file>

<file path=ppt/comments/comment18.xml><?xml version="1.0" encoding="utf-8"?>
<p:cmLst xmlns:p="http://schemas.openxmlformats.org/presentationml/2006/main">
  <p:cm authorId="0" dt="2004-10-12T11:47:36.067000000" idx="7">
    <p:pos x="10" y="10"/>
    <p:text>specificare che occorre RISOlLVERE PROBLEMI
- il problema si risolve avendo i dati e sapendo cosa
risolvere
- ci sono diverse fasi
- ci sono diversi soggetti</p:text>
  </p:cm>
</p:cmLst>
</file>

<file path=ppt/comments/comment19.xml><?xml version="1.0" encoding="utf-8"?>
<p:cmLst xmlns:p="http://schemas.openxmlformats.org/presentationml/2006/main">
  <p:cm authorId="0" dt="2004-10-12T11:47:36.067000000" idx="8">
    <p:pos x="10" y="10"/>
    <p:text>specificare che occorre RISOlLVERE PROBLEMI
- il problema si risolve avendo i dati e sapendo cosa
risolvere
- ci sono diverse fasi
- ci sono diversi soggetti</p:text>
  </p:cm>
</p:cmLst>
</file>

<file path=ppt/comments/comment20.xml><?xml version="1.0" encoding="utf-8"?>
<p:cmLst xmlns:p="http://schemas.openxmlformats.org/presentationml/2006/main">
  <p:cm authorId="0" dt="2004-10-12T11:47:36.067000000" idx="9">
    <p:pos x="10" y="10"/>
    <p:text>specificare che occorre RISOlLVERE PROBLEMI
- il problema si risolve avendo i dati e sapendo cosa
risolvere
- ci sono diverse fasi
- ci sono diversi soggetti</p:text>
  </p:cm>
</p:cmLst>
</file>

<file path=ppt/comments/comment21.xml><?xml version="1.0" encoding="utf-8"?>
<p:cmLst xmlns:p="http://schemas.openxmlformats.org/presentationml/2006/main">
  <p:cm authorId="0" dt="2004-10-12T11:47:36.067000000" idx="10">
    <p:pos x="10" y="10"/>
    <p:text>specificare che occorre RISOlLVERE PROBLEMI
- il problema si risolve avendo i dati e sapendo cosa
risolvere
- ci sono diverse fasi
- ci sono diversi soggetti</p:text>
  </p:cm>
</p:cmLst>
</file>

<file path=ppt/comments/comment22.xml><?xml version="1.0" encoding="utf-8"?>
<p:cmLst xmlns:p="http://schemas.openxmlformats.org/presentationml/2006/main">
  <p:cm authorId="0" dt="2004-10-12T11:47:36.067000000" idx="11">
    <p:pos x="10" y="10"/>
    <p:text>specificare che occorre RISOlLVERE PROBLEMI
- il problema si risolve avendo i dati e sapendo cosa
risolvere
- ci sono diverse fasi
- ci sono diversi soggetti</p:text>
  </p:cm>
</p:cmLst>
</file>

<file path=ppt/comments/comment23.xml><?xml version="1.0" encoding="utf-8"?>
<p:cmLst xmlns:p="http://schemas.openxmlformats.org/presentationml/2006/main">
  <p:cm authorId="0" dt="2004-10-12T11:47:36.067000000" idx="12">
    <p:pos x="10" y="10"/>
    <p:text>specificare che occorre RISOlLVERE PROBLEMI
- il problema si risolve avendo i dati e sapendo cosa
risolvere
- ci sono diverse fasi
- ci sono diversi soggetti</p:text>
  </p:cm>
</p:cmLst>
</file>

<file path=ppt/comments/comment24.xml><?xml version="1.0" encoding="utf-8"?>
<p:cmLst xmlns:p="http://schemas.openxmlformats.org/presentationml/2006/main">
  <p:cm authorId="0" dt="2004-10-12T11:47:36.067000000" idx="13">
    <p:pos x="10" y="10"/>
    <p:text>specificare che occorre RISOlLVERE PROBLEMI
- il problema si risolve avendo i dati e sapendo cosa
risolvere
- ci sono diverse fasi
- ci sono diversi soggetti</p:text>
  </p:cm>
</p:cmLst>
</file>

<file path=ppt/comments/comment25.xml><?xml version="1.0" encoding="utf-8"?>
<p:cmLst xmlns:p="http://schemas.openxmlformats.org/presentationml/2006/main">
  <p:cm authorId="0" dt="2004-10-12T11:47:36.067000000" idx="14">
    <p:pos x="10" y="10"/>
    <p:text>specificare che occorre RISOlLVERE PROBLEMI
- il problema si risolve avendo i dati e sapendo cosa
risolvere
- ci sono diverse fasi
- ci sono diversi soggetti</p:text>
  </p:cm>
</p:cmLst>
</file>

<file path=ppt/comments/comment26.xml><?xml version="1.0" encoding="utf-8"?>
<p:cmLst xmlns:p="http://schemas.openxmlformats.org/presentationml/2006/main">
  <p:cm authorId="0" dt="2004-10-12T11:47:36.067000000" idx="15">
    <p:pos x="10" y="10"/>
    <p:text>specificare che occorre RISOlLVERE PROBLEMI
- il problema si risolve avendo i dati e sapendo cosa
risolvere
- ci sono diverse fasi
- ci sono diversi soggetti</p:text>
  </p:cm>
</p:cmLst>
</file>

<file path=ppt/comments/comment27.xml><?xml version="1.0" encoding="utf-8"?>
<p:cmLst xmlns:p="http://schemas.openxmlformats.org/presentationml/2006/main">
  <p:cm authorId="0" dt="2004-10-12T11:47:36.067000000" idx="16">
    <p:pos x="10" y="10"/>
    <p:text>specificare che occorre RISOlLVERE PROBLEMI
- il problema si risolve avendo i dati e sapendo cosa
risolvere
- ci sono diverse fasi
- ci sono diversi soggetti</p:text>
  </p:cm>
</p:cmLst>
</file>

<file path=ppt/comments/comment28.xml><?xml version="1.0" encoding="utf-8"?>
<p:cmLst xmlns:p="http://schemas.openxmlformats.org/presentationml/2006/main">
  <p:cm authorId="0" dt="2004-10-12T11:47:36.067000000" idx="17">
    <p:pos x="10" y="10"/>
    <p:text>specificare che occorre RISOlLVERE PROBLEMI
- il problema si risolve avendo i dati e sapendo cosa
risolvere
- ci sono diverse fasi
- ci sono diversi soggetti</p:text>
  </p:cm>
</p:cmLst>
</file>

<file path=ppt/comments/comment29.xml><?xml version="1.0" encoding="utf-8"?>
<p:cmLst xmlns:p="http://schemas.openxmlformats.org/presentationml/2006/main">
  <p:cm authorId="0" dt="2004-10-12T11:47:36.067000000" idx="18">
    <p:pos x="10" y="10"/>
    <p:text>specificare che occorre RISOlLVERE PROBLEMI
- il problema si risolve avendo i dati e sapendo cosa
risolvere
- ci sono diverse fasi
- ci sono diversi soggetti</p:text>
  </p:cm>
</p:cmLst>
</file>

<file path=ppt/comments/comment3.xml><?xml version="1.0" encoding="utf-8"?>
<p:cmLst xmlns:p="http://schemas.openxmlformats.org/presentationml/2006/main">
  <p:cm authorId="0" dt="2004-10-12T11:47:36.067000000" idx="1">
    <p:pos x="10" y="10"/>
    <p:text>specificare che occorre RISOlLVERE PROBLEMI
- il problema si risolve avendo i dati e sapendo cosa
risolvere
- ci sono diverse fasi
- ci sono diversi soggetti</p:text>
  </p:cm>
</p:cmLst>
</file>

<file path=ppt/comments/comment30.xml><?xml version="1.0" encoding="utf-8"?>
<p:cmLst xmlns:p="http://schemas.openxmlformats.org/presentationml/2006/main">
  <p:cm authorId="0" dt="2004-10-12T11:47:36.067000000" idx="19">
    <p:pos x="10" y="10"/>
    <p:text>specificare che occorre RISOlLVERE PROBLEMI
- il problema si risolve avendo i dati e sapendo cosa
risolvere
- ci sono diverse fasi
- ci sono diversi soggetti</p:text>
  </p:cm>
</p:cmLst>
</file>

<file path=ppt/comments/comment31.xml><?xml version="1.0" encoding="utf-8"?>
<p:cmLst xmlns:p="http://schemas.openxmlformats.org/presentationml/2006/main">
  <p:cm authorId="0" dt="2004-10-12T11:47:36.067000000" idx="20">
    <p:pos x="10" y="10"/>
    <p:text>specificare che occorre RISOlLVERE PROBLEMI
- il problema si risolve avendo i dati e sapendo cosa
risolvere
- ci sono diverse fasi
- ci sono diversi soggetti</p:text>
  </p:cm>
</p:cmLst>
</file>

<file path=ppt/comments/comment32.xml><?xml version="1.0" encoding="utf-8"?>
<p:cmLst xmlns:p="http://schemas.openxmlformats.org/presentationml/2006/main">
  <p:cm authorId="0" dt="2004-10-12T11:47:36.067000000" idx="21">
    <p:pos x="10" y="10"/>
    <p:text>specificare che occorre RISOlLVERE PROBLEMI
- il problema si risolve avendo i dati e sapendo cosa
risolvere
- ci sono diverse fasi
- ci sono diversi soggetti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5FB-E8ED-44BC-A817-6B2F6247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941-9FEC-410F-B1CF-F5AE2D6D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425-8DD9-4C8B-A462-DCC6D887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CFF-218E-4CB1-9743-09B064B8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E728-32D0-49F3-B77A-16DCDF54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4B66-D81E-4404-8F43-D1E22000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31F6-F4D1-46DA-B056-64FFEEEB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9B68-C6A0-4100-8984-8171EBED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8AA7-602B-4CFD-87DE-4FA20EE4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2E9F-2F97-4049-B0C5-C46EE2F8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C0C3-6ACB-4115-B5FF-7B1A49EB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EBD-2391-4EF0-B7F3-8C7C2DD1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C97B-96E4-4604-8E77-74BAA1B7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7DB1-CCFC-43B8-9B56-F52EF03A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83B3-4B8B-4022-8806-17BA90B6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CF01-48E8-4F3B-8F73-2061BC6C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6A8A-0109-46B1-8D14-E7389550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ED6-19B3-4795-8A47-0AB95DC5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5A3-1B0A-4DE0-9E79-55663DD8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796-4B89-474E-921E-B3D9EB54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AF5-8699-4264-9B95-24120CA3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473-F45F-4BDB-81D4-13461881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A8A-2B79-4EB2-AE2F-0501AB40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2D3-FCA8-4349-ADEB-187EA291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2B6C-7034-46C2-A1BD-ECBBF488C62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1730-848B-4125-AC86-7EC3133168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vr.it/" TargetMode="External"/><Relationship Id="rId2" Type="http://schemas.openxmlformats.org/officeDocument/2006/relationships/hyperlink" Target="http://www.di.univr.it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FORMATICA DI BAS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748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Docente: Michele Pian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188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FORMAZIONE E DATI - 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6920" y="1700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Mario 52827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17240" y="2276640"/>
            <a:ext cx="59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no due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ati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su un foglio di car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4120" y="3068640"/>
            <a:ext cx="829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 il foglio di carta viene fornito in rispo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a domanda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 chi mi devo rivolgere per  questo problema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al e’ il suo numero di telefono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6680" y="5573880"/>
            <a:ext cx="68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ora i due dati diventano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for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SEMPIO - 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4880" y="1197000"/>
            <a:ext cx="38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mografia a raggi X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10880" y="234936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a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12920" y="550224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for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616280" y="2060640"/>
            <a:ext cx="1395720" cy="1388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27640" y="5084640"/>
            <a:ext cx="1523880" cy="1498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15640" y="400536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labor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3860640"/>
            <a:ext cx="503280" cy="866880"/>
          </a:xfrm>
          <a:prstGeom prst="downArrow">
            <a:avLst>
              <a:gd name="adj1" fmla="val 50000"/>
              <a:gd name="adj2" fmla="val 4306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115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6666"/>
                </a:solidFill>
                <a:latin typeface="Arial"/>
              </a:rPr>
              <a:t>SCHEMA RIASSUNTIVO 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11280" y="1413000"/>
            <a:ext cx="7772040" cy="4679640"/>
            <a:chOff x="611280" y="1413000"/>
            <a:chExt cx="7772040" cy="4679640"/>
          </a:xfrm>
        </p:grpSpPr>
        <p:sp>
          <p:nvSpPr>
            <p:cNvPr id="129" name=""/>
            <p:cNvSpPr/>
            <p:nvPr/>
          </p:nvSpPr>
          <p:spPr>
            <a:xfrm>
              <a:off x="611280" y="1413000"/>
              <a:ext cx="7772040" cy="4679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57960" y="1506240"/>
              <a:ext cx="531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Sistema organizzativ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116000" y="1989000"/>
            <a:ext cx="6768720" cy="3815640"/>
            <a:chOff x="1116000" y="1989000"/>
            <a:chExt cx="6768720" cy="3815640"/>
          </a:xfrm>
        </p:grpSpPr>
        <p:sp>
          <p:nvSpPr>
            <p:cNvPr id="132" name=""/>
            <p:cNvSpPr/>
            <p:nvPr/>
          </p:nvSpPr>
          <p:spPr>
            <a:xfrm>
              <a:off x="1116000" y="1989000"/>
              <a:ext cx="6768720" cy="3815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48000" y="1989000"/>
              <a:ext cx="5040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Sistema informativ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92360" y="2565360"/>
            <a:ext cx="5831640" cy="2950560"/>
            <a:chOff x="1692360" y="2565360"/>
            <a:chExt cx="5831640" cy="2950560"/>
          </a:xfrm>
        </p:grpSpPr>
        <p:sp>
          <p:nvSpPr>
            <p:cNvPr id="135" name=""/>
            <p:cNvSpPr/>
            <p:nvPr/>
          </p:nvSpPr>
          <p:spPr>
            <a:xfrm>
              <a:off x="1692360" y="2565360"/>
              <a:ext cx="5831640" cy="295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98720" y="2565360"/>
              <a:ext cx="475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Sistema informatic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68360" y="3141720"/>
            <a:ext cx="4751280" cy="2086920"/>
            <a:chOff x="2268360" y="3141720"/>
            <a:chExt cx="4751280" cy="2086920"/>
          </a:xfrm>
        </p:grpSpPr>
        <p:sp>
          <p:nvSpPr>
            <p:cNvPr id="138" name=""/>
            <p:cNvSpPr/>
            <p:nvPr/>
          </p:nvSpPr>
          <p:spPr>
            <a:xfrm>
              <a:off x="2268360" y="3141720"/>
              <a:ext cx="4751280" cy="208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18200" y="3141720"/>
              <a:ext cx="3876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Informazioni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132000" y="3716280"/>
            <a:ext cx="2592360" cy="1015920"/>
            <a:chOff x="3132000" y="3716280"/>
            <a:chExt cx="2592360" cy="1015920"/>
          </a:xfrm>
        </p:grpSpPr>
        <p:sp>
          <p:nvSpPr>
            <p:cNvPr id="141" name=""/>
            <p:cNvSpPr/>
            <p:nvPr/>
          </p:nvSpPr>
          <p:spPr>
            <a:xfrm>
              <a:off x="3132000" y="3716280"/>
              <a:ext cx="2592360" cy="978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68080" y="3716280"/>
              <a:ext cx="2115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Dati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PROBLE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7040" y="2693880"/>
            <a:ext cx="77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sa significa: “Societa’ dell’Informazione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06400" y="66492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ANSIZIONI - 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760" y="1700280"/>
            <a:ext cx="865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’evoluzione economico-industriale della societa’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ccidentale puo’ essere interpretata secondo t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as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4880" y="3573360"/>
            <a:ext cx="82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eta’ pre-industriale: gestione della mate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240" y="4494240"/>
            <a:ext cx="74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eta’ industriale: gestione dell’ener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5960" y="5516640"/>
            <a:ext cx="631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eta’ post-industriale: gest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l’infor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99920" y="598320"/>
            <a:ext cx="78260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ANSIZIONI - 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8640" y="1546200"/>
            <a:ext cx="896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e reti rappresentano uno strumento indispensabi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r lo sviluppo della societa’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640" y="2852640"/>
            <a:ext cx="771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eta’ pre-industriale: reti per il traspor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 materie (strade, acquedotti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6520" y="4076640"/>
            <a:ext cx="88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eta’ industriale: reti per il trasport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l’energia (gasdotti, reti elettriche, petrolifere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960" y="5516640"/>
            <a:ext cx="80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eta’ post-industriale: reti per il traspor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l’informazione (reti telefoniche, internet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09280" y="746280"/>
            <a:ext cx="78166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ISPOSTA AL PROBLEMA 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6840" y="2133720"/>
            <a:ext cx="825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 societa’ dell’informazione e’ la societa’ 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ui la gestione dell’informazione e le reti p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l trasporto dell’informazione svolgono un ruo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im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01760" y="4797360"/>
            <a:ext cx="638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eta’ dell’informazione e societa’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st-industriale sono sinoni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91640" y="296280"/>
            <a:ext cx="7851960" cy="5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FORMAZIONE E RICCHEZZA - 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943280" y="2944800"/>
          <a:ext cx="55814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2944800"/>
                    <a:ext cx="55814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19520" y="1052640"/>
            <a:ext cx="896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’Information and Communication Technology (IC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duce ricchez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5040" y="2189160"/>
            <a:ext cx="60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ributo dell’ICT al PIL USA (%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81920" y="430920"/>
            <a:ext cx="7871400" cy="3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FORMAZIONE E RICCHEZZA - 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892160" y="2944800"/>
          <a:ext cx="55818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944800"/>
                    <a:ext cx="55818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800720" y="1109520"/>
            <a:ext cx="55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’ICT aiuta a produrre ricchez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32400" y="1916280"/>
            <a:ext cx="555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cremento della produttivita’ 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vestimenti ICT (%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81920" y="430920"/>
            <a:ext cx="7871400" cy="3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FORMAZIONE E RICCHEZZA - I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892160" y="2924280"/>
          <a:ext cx="55818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924280"/>
                    <a:ext cx="55818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558880" y="981000"/>
            <a:ext cx="42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’ICT richiede ricchez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3400" y="1773360"/>
            <a:ext cx="67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vestimento in ICT delle imprese US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AT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360" y="2317320"/>
            <a:ext cx="8964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ario di ricevimento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unedi ore 15:45 – 16:4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za 2.05 Palazzo di Lett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rizzo email:     michele.piana@univr.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4880" y="5484960"/>
            <a:ext cx="46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://www.di.univr.i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/~pi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81920" y="430920"/>
            <a:ext cx="7871400" cy="3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FORMAZIONE E CULTURA - 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4880" y="1325520"/>
            <a:ext cx="66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’ICT aiuta a verificare la conoscenz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5240" y="2532240"/>
            <a:ext cx="61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ante verita’ alternative ci son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6680" y="3645000"/>
            <a:ext cx="80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anto sono credibili le informazioni a nost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posizi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2720" y="5157720"/>
            <a:ext cx="736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sa e’ ‘rumor’ e cosa e’ ‘fatto’ nell’are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 interne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781920" y="430920"/>
            <a:ext cx="7871400" cy="3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FORMAZIONE E CULTURA - 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5400" y="110952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’ICT rende la conoscenza piu’ facilment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ruibile attravers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2720" y="2492280"/>
            <a:ext cx="11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2000" y="3357720"/>
            <a:ext cx="13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760" y="436572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rumenti per l’elaborazione dell’infor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81920" y="430920"/>
            <a:ext cx="7871400" cy="3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FORMAZIONE E CULTURA - I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240" y="1109520"/>
            <a:ext cx="773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’ICT aiuta la liberta’ della cultura facilitan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’interazione a livel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30120" y="2492280"/>
            <a:ext cx="16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73600" y="3557520"/>
            <a:ext cx="14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tn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73600" y="4565520"/>
            <a:ext cx="16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lit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71800" y="5646600"/>
            <a:ext cx="18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ligio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81920" y="430920"/>
            <a:ext cx="7871400" cy="3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FORMAZIONE E CULTURA - IV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4520" y="118116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’ICT e’ cultura, in due sens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3240" y="2200320"/>
            <a:ext cx="870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’elaborazione dell’informazione e’ una ‘palestra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raordinaria per interi settori della matematica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la fisica, della medicina, della biologi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1440" y="4000680"/>
            <a:ext cx="842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l mondo dell’ICT e’ una fonte di ispir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raordinaria per interi settori della matematica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la fisica, della medicina, della biologia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49400" y="5805360"/>
            <a:ext cx="47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’ nata una nuova scienz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332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N PO’ DI STORIA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evo antico - I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284720" y="2039760"/>
            <a:ext cx="4427640" cy="1378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06560" y="1679400"/>
            <a:ext cx="383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500 a.c. – 1500 d.c.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 visione della realta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 basa su una logic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qualitativa. Il calcolo e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iegato nella gest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ll’economia quotidia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9080" y="4816440"/>
            <a:ext cx="38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500: nascono l’anatom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 l’idea di macchin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43280" y="4325760"/>
            <a:ext cx="3770640" cy="17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N PO’ DI STORIA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l’evo antico – II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2663640" cy="1627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50200" y="2060640"/>
            <a:ext cx="44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600: Calcolo simbol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 concetto di differenzia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 matematica si fa sofistic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200" y="4672080"/>
            <a:ext cx="439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700: la macchina co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tagonista delle dinamich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ciali. Nasce il luddism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651640" y="3789360"/>
            <a:ext cx="22651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N PO’ DI STORIA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il medio evo – I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7840" y="2079720"/>
            <a:ext cx="3841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800 - 1850: viene scoperta e riprodotta l’energia elettrica. Nasce il calcolo numerico e il concetto di errore nel calcol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o sviluppo delle pr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abbriche rafforza l’ide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lla macchina com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emica del lavor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183280" y="2276640"/>
            <a:ext cx="2743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N PO’ DI STORIA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il medio evo – II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2255760"/>
            <a:ext cx="397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850 – 1900: il telefo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 la radio irrompo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lla scena mondia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l denaro sempre piu’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tagonista della ricerc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plica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imi esperimenti d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tena di montagg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003640" y="2205000"/>
            <a:ext cx="28195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N PO’ DI STORIA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l’evo moderno – I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400" y="2151000"/>
            <a:ext cx="452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900 – 1945: la Relativita’ e l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ccanica Quantistic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ivoluzionano il modo di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uardare alla realta’ fisic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e esigenze militari dann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ulso a nuove ricerch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’IBM e’ la prima fabbrica di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lcolato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64000" y="2637000"/>
            <a:ext cx="3311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N PO’ DI STORIA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l’evo moderno – II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280" y="2220840"/>
            <a:ext cx="52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945 – 2000: l’uomo nell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pazio (anche grazie a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lcolatori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 fisica dei semiconduttori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re la strada al microprocessor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l progetto WWW mette il mond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ella Rete: e’ la Nascita dell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cieta’ dell’Informazio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478480" y="2421000"/>
            <a:ext cx="28386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IBRO CONSIGLIA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8640" y="3141720"/>
            <a:ext cx="72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INTRODUZIONE AI SISTEMI INFORMATIC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7600" y="2316240"/>
            <a:ext cx="59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. Sciuto - G. Buonanno – L. Mar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00" y="397368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cGraw - H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OTAGONISTI - 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2322720" cy="3384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854520" y="2781360"/>
            <a:ext cx="4492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el ‘Codice di Madrid’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50 anni prima di Pascal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magina un sistem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eccanico di calcolatr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asato su ruote dent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OTAGONISTI - 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2190600" cy="2808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849400" y="2060640"/>
            <a:ext cx="61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orema fondamentale dell’algeb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6160" y="27813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oria dei nume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47960" y="3557520"/>
            <a:ext cx="42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eometrie non euclid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91080" y="429264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etodo dei minimi quadr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2840" y="5373720"/>
            <a:ext cx="850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 soprattutto: comprende la valenza applicat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la matematica (e diventa ricc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OTAGONISTI - I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2438640" cy="2730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124880" y="2276640"/>
            <a:ext cx="4388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 l’ENIAC realizza 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cchina Universale 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uring: nasce il concet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 programmazio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el frattempo: partecip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 ‘Progetto Manhattan’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venta le C* algebre 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nda la Ciberne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AME - 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0 doman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possibili risposte di cui una giusta e due sbagli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punto per ogni risposta giusta, zero per ogni risposta sbagliata, zero per ogni risposta non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gistrazione elettronica del vo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AME -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UTTI GLI APPELLI SONO UGUALI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 IL PRIMO APPELLO E’ PIU’ UGUALE DEGLI ALT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UTO DEL CORS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trodu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gorit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’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l Sistema oper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UTO DELLA LE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cetti base dell’informa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eta’ dell’infor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n po’ di st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tagoni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CETTI BAS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0840" y="3068640"/>
            <a:ext cx="858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formazione: cio’ che consente di comprend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 modo piu’ o meno esatto, un fatto, un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tuazione o un modo di ess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9040" y="1844640"/>
            <a:ext cx="780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ato: cio’ che e’ immediatamente pres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a conoscenza, prima di ogni elabor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8680" y="4797360"/>
            <a:ext cx="809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formatica: studio della conservazione, del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laborazione e della rappresentaz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l’infor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9246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SEMPIO 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9240" y="1484280"/>
            <a:ext cx="37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mpioni e semafor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79280" y="2421000"/>
            <a:ext cx="5904000" cy="1006200"/>
            <a:chOff x="179280" y="2421000"/>
            <a:chExt cx="5904000" cy="1006200"/>
          </a:xfrm>
        </p:grpSpPr>
        <p:sp>
          <p:nvSpPr>
            <p:cNvPr id="106" name=""/>
            <p:cNvSpPr/>
            <p:nvPr/>
          </p:nvSpPr>
          <p:spPr>
            <a:xfrm>
              <a:off x="179280" y="2633760"/>
              <a:ext cx="2016360" cy="649080"/>
            </a:xfrm>
            <a:prstGeom prst="rightArrow">
              <a:avLst>
                <a:gd name="adj1" fmla="val 50000"/>
                <a:gd name="adj2" fmla="val 77662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energia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66920" y="2421000"/>
              <a:ext cx="1728720" cy="10062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lampion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67280" y="2635200"/>
              <a:ext cx="2016000" cy="649440"/>
            </a:xfrm>
            <a:prstGeom prst="rightArrow">
              <a:avLst>
                <a:gd name="adj1" fmla="val 50000"/>
                <a:gd name="adj2" fmla="val 77605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energia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79280" y="4222800"/>
            <a:ext cx="8893440" cy="1006560"/>
            <a:chOff x="179280" y="4222800"/>
            <a:chExt cx="8893440" cy="1006560"/>
          </a:xfrm>
        </p:grpSpPr>
        <p:sp>
          <p:nvSpPr>
            <p:cNvPr id="110" name=""/>
            <p:cNvSpPr/>
            <p:nvPr/>
          </p:nvSpPr>
          <p:spPr>
            <a:xfrm>
              <a:off x="179280" y="4435560"/>
              <a:ext cx="2016360" cy="649080"/>
            </a:xfrm>
            <a:prstGeom prst="rightArrow">
              <a:avLst>
                <a:gd name="adj1" fmla="val 50000"/>
                <a:gd name="adj2" fmla="val 77662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energia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68720" y="4435560"/>
              <a:ext cx="2016000" cy="649080"/>
            </a:xfrm>
            <a:prstGeom prst="rightArrow">
              <a:avLst>
                <a:gd name="adj1" fmla="val 50000"/>
                <a:gd name="adj2" fmla="val 77648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energia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68360" y="4222800"/>
              <a:ext cx="1729080" cy="100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semaforo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6360" y="4365720"/>
              <a:ext cx="2916360" cy="720720"/>
            </a:xfrm>
            <a:prstGeom prst="rightArrow">
              <a:avLst>
                <a:gd name="adj1" fmla="val 50000"/>
                <a:gd name="adj2" fmla="val 101161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informazion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1:17:17Z</dcterms:created>
  <dc:creator>castella</dc:creator>
  <dc:description/>
  <dc:language>en-US</dc:language>
  <cp:lastModifiedBy>piana</cp:lastModifiedBy>
  <dcterms:modified xsi:type="dcterms:W3CDTF">2007-09-26T16:22:27Z</dcterms:modified>
  <cp:revision>133</cp:revision>
  <dc:subject/>
  <dc:title>Lezione 2: integrazione</dc:title>
</cp:coreProperties>
</file>