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645-E7F4-429E-A8C6-C9E73545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D9A5-8470-40DA-AB6B-5214573D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8C4-467A-4B84-8098-0EB0EB7B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6C7-2B6E-4D34-BA2F-573E5348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055C-6EC9-4AE0-9ED7-BCDB8D83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D13F-5C43-48ED-84AA-16B1D672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8395-6353-4E3F-82AE-04B42F43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8FEA-687B-4BA3-9626-3F4DCAF1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D59D-41F1-4140-A2FE-F02BF5A5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5CA5-D2C2-482A-ADC4-1293F2B9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8F7F-8051-4B16-AB3D-F3CC3A9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DA6-B0E4-4624-ABA4-B8D4A49C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249C-87E4-4154-A232-16124CDE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599C-C198-48EB-8FC2-F1D352C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0B75-AD49-4DC2-B37F-44D2C2FB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25A9-AD4F-46F7-820A-64FC8A0A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07B5-86AB-4520-BE14-F730C143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DEA-09AB-47A7-9EED-150BC1C7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711-B577-4B3E-8E46-2DB6BBF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367-7ABD-4A0D-8FC0-705EF8E1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133-A5FC-4FA6-AC04-F2F56700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C82-2525-469A-AACC-9E93797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A53-80C1-4D97-B611-D65497D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21A8-90D2-4532-9740-0A10B834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55FB-8840-4E65-98AA-78BEC9A22F41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315E-7A7C-450E-B864-02F87892C771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Lezione 7: Infrastrutture sofwa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Informatica di bas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Docente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Michele Pia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MPAN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’ la periferica che riporta su carta i risultati di una elabo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mpanti ad agh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a testina di scrittura contiene un insieme di aghi pilotabili singolarmente. I caratteri si ottengono dalle diverse configurazioni di punti (aghi) stampati su ca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MPANTI (I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mpanti a getto d’inchiostr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 caratteri si formano da configurazioni di punti realizzati trasferendo sulla carta gocce microscopiche di inchiostr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no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conomiche, silenziose (rispetto alle stampanti ad aghi), ottima qualità di stampa, colo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MPANTI(II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tampanti laser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l’immagine della pagina da stampare viene impressa su un rullo di materiale fotosensibile da un raggio laser che carica elettricamente le zone raggiunte; queste zone attirano le particelle di inchiostro (toner) sulla ca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Qualità di stampa elevata, buona velocità, costi non eccessiv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spositivi per il trasferimento dei dati da un calcolatore ad utilizzando la tradizionale rete telefon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Modulatore e demodulatore </a:t>
            </a:r>
            <a:r>
              <a:rPr b="0" i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Occorre tradurre i segnali da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digit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d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analogic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Computer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te telefonica) e da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analogic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digit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Rete telefonica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ut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I di CALCOLATO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ieme di calcolatori autonomi tra loro collegati mediante una rete di comunic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i utenti sono in grado di interagire in modo esplicito con la r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calcolatori connessi alla rete mantengono un grado di interdipendenza: in caso di guasto della rete (o parte della rete) i singoli calcolatori continuano a funzion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stema ope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gram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l Sistema operativo (S.O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componenti fisici sono accessibili attraverso software dedic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ftware di sistema o di 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no forniti assieme all’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nsieme di questi programmi forma il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stema Ope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5760" y="530280"/>
            <a:ext cx="78166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zioni del sistema operativ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628280"/>
            <a:ext cx="76932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rrettezza nell’elaborazione e trasmissione 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fruttamento delle risorse di r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curezza e privatez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operabilita’ tra dispositivi forniti da produttori diversi di software e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sistema operativo ‘virtualizza’ l’hardware e offre un immagine astratta della macch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GGERIMENTO NATALIZ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omas Friedma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mondo e’ piatto”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ndad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ASSUNTO DELLA LEZIONE PRECED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LTIPROGRAMM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ersi programmi nel sistema, ognuno c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 proprio tempo di elaborazione e un tempo di attesa per l’i/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tempo e’ suddiviso in quanti da assegnare a tutti i program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und-robin: assegnazione del quanto a ro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o a q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DI MA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8126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on volatilit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rande capacit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tie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i che servono agli ut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i che servono al funzionamento del sistema (S.O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unzionano anche in assenza di al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ono basati su tecnologie magnetiche e ot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stema operativo: paragrafi 6.1, 6.1.1, 6.1.2, 6.1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cessi: paragrafi 6.2, 6.2.1 (escluso da pag. 215 a pag. 21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FACCIA I/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comunicazione tra il calcolatore e l’ambiente esterno avviene attraverso dei dispositivi di I/O detti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perifer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periferica viene controllata tramite interfaccie che traducono i segnali interni al calcolatore in formati comprensibili alla perife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E di I/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interfaccie sono realizzate tramite schede che vengono inserite sulla scheda madre (ad incastro o cabl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periferica si collega attraverso opportuni connettori detti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porte di I/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TI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eccaniche o elettromagne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ndo si preme un tasto viene generato un segnale di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interruzion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he viene mandato al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gestore degli interrupt di tastier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 Ad ogni tasto si associa un segnale diver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ndo il tasto viene rilasciato si verifica una seconda interr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6-11-27T17:38:31Z</dcterms:modified>
  <cp:revision>53</cp:revision>
  <dc:subject/>
  <dc:title>Lezione 2: integrazione</dc:title>
</cp:coreProperties>
</file>