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comments/comment5.xml" ContentType="application/vnd.openxmlformats-officedocument.presentationml.comments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castella" initials="c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<Relationship Id="rId46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4-10-12T12:19:49.967000000" idx="2">
    <p:pos x="10" y="10"/>
    <p:text>dire che mi devo agganciare con le fasi di interpretazione.
- es. se l'esecutore e' inglese significa che la modellazione deve essere in lingua inglese</p:text>
  </p:cm>
</p:cmLst>
</file>

<file path=ppt/comments/comment5.xml><?xml version="1.0" encoding="utf-8"?>
<p:cmLst xmlns:p="http://schemas.openxmlformats.org/presentationml/2006/main">
  <p:cm authorId="0" dt="2004-10-12T11:47:36.067000000" idx="1">
    <p:pos x="10" y="10"/>
    <p:text>specificare che occorre RISOlLVERE PROBLEMI
- il problema si risolve avendo i dati e sapendo cosa
risolvere
- ci sono diverse fasi
- ci sono diversi soggetti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471-B1E5-4C2D-BB6A-5525810C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FDC-049A-4B63-A004-30E5C60D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6F19-6DC5-4558-8314-06D5BCB2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D57-D92F-4D00-BCF5-366941CD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35A0-E5EA-4947-B24D-3359AB83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4907-E22F-457E-9216-667B4D3F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4E57-1755-4380-B766-904ECEE0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FC94-C77E-40F1-BF56-FE9F8C0D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7F44-C25E-43EE-A75C-A9F23928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36F1-C414-48B4-9534-975098E5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4382-C150-428E-B3B0-7FB4ECD4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5EC-6C0C-4EDE-BC2D-5299DE52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83FA-7C23-4A60-8BDF-055D28D4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B001-8F48-46D1-9FCD-630A9DC6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14C9-A19A-4FE0-85EE-825400E1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0524-9D5B-49B5-AE1A-BE5623CD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C77D-3813-4A02-A2C1-18E7E213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3D9-C7BE-4482-8617-891349A5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4AF-67A1-4F99-B129-CFE6C735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408-A617-439F-8C13-D00C55FF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1FC-8BEA-4604-A4BF-3981A946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9B7-3776-4F22-A676-B74ABCAF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7D2-ED8B-48D0-AE70-2675A035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226-21F7-4BFC-9A36-6525B6F5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6EBB-86FA-4CF3-8BBD-9337B3866894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4A5C-09F0-4820-9742-FA7EE023329C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"/>
              </a:rPr>
              <a:t>Lezione 10: Riassunt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365720"/>
            <a:ext cx="3961080" cy="18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66"/>
                </a:solidFill>
                <a:latin typeface="Arial"/>
              </a:rPr>
              <a:t>Informatica di b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66"/>
                </a:solidFill>
                <a:latin typeface="Arial"/>
              </a:rPr>
              <a:t>Docente:</a:t>
            </a:r>
            <a:r>
              <a:rPr b="0" lang="it-IT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6666"/>
                </a:solidFill>
                <a:latin typeface="Arial"/>
              </a:rPr>
              <a:t>Michele Pia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ASI DELLA SOLUZIONE DEL PROBLEM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10920" y="2435400"/>
            <a:ext cx="8055000" cy="37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secutore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è caratterizzato da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inguaggi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e è in grado di interpret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’insieme dell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zion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e è in grado di compi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’insieme dell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go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e a ogni costrutto linguistico sintatticamente corretto associano le relative azioni da compi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1267920"/>
            <a:ext cx="76932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cetto di algorit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prieta’ degli algorit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Variabili e tipi di d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appresentazione degli algorit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gram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onenti dell’Algoritm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goritmo = istruzioni + strutture d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riabil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pi di istruz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867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TRU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137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ottoprogrammi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: quando la scomposizione in sottoproblemi genera un numero di passi elevato la soluzione viene rimandata ad un altro problema 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non elementare terminale.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Nei linguaggi di programmazione si parla di sottoprogram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leggi 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leggi 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calcola MAX(A,B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Stampa MAX(A,B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TRU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74560" y="2276640"/>
            <a:ext cx="856944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trutture iterative o cicli (</a:t>
            </a:r>
            <a:r>
              <a:rPr b="1" i="1" lang="it-IT" sz="2400" spc="-1" strike="noStrike">
                <a:solidFill>
                  <a:srgbClr val="ff0000"/>
                </a:solidFill>
                <a:latin typeface="Arial"/>
              </a:rPr>
              <a:t>loop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):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quando un blocco di istruzioni (o sottoprogramma) viene ripetuto più volt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ono istruzioni del tipo: “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finché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condizione 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ripeti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azion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1: leggi 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2: I=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3: finché I&lt;10 cicla fino a P6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4: stampa 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5: I=I+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6: fine cic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3366"/>
                </a:solidFill>
                <a:latin typeface="Courier New"/>
              </a:rPr>
              <a:t>P7: sto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GRAMMA defini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3366"/>
                </a:solidFill>
                <a:latin typeface="Arial"/>
              </a:rPr>
              <a:t>Un programma è una successione di istruzioni, che mediante un opportuno programma di traduzione possono essere trasformate in istruzioni in linguaggio macchina (“basso livello”) direttamente eseguibili dal calcolat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Es di linguaggi di programmazion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C, C++, Java, Pascal, Basic,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PERTEST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Ipertesto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i="1" lang="it-IT" sz="2800" spc="-1" strike="noStrike">
                <a:solidFill>
                  <a:srgbClr val="003366"/>
                </a:solidFill>
                <a:latin typeface="Arial"/>
              </a:rPr>
              <a:t>documento la cui struttura di consultazione non è lineare cioè tale che le parti di cui è logicamente costituito sono organizzate in successione ma secondo una struttura comples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Da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Sequenziale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a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Random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i="1" lang="it-IT" sz="2800" spc="-1" strike="noStrike">
                <a:solidFill>
                  <a:srgbClr val="003366"/>
                </a:solidFill>
                <a:latin typeface="Arial"/>
              </a:rPr>
              <a:t>Interattività</a:t>
            </a: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38080" y="13600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cetti base dell’informa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cieta’ dell’infor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Un po’ di st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tagoni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1052640"/>
            <a:ext cx="7693200" cy="47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unzioni di un calcolat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dello concettu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odello architettur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 Scheda mad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 B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 CP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- Mem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549000"/>
            <a:ext cx="76932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emorie di mas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r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astie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ni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tampa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u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d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ti di calcolato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1341000"/>
            <a:ext cx="769320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stema oper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gram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cess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66"/>
                </a:solidFill>
                <a:latin typeface="Arial"/>
              </a:rPr>
              <a:t>CONCETTI BAS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0840" y="3068640"/>
            <a:ext cx="8582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formazione: cio’ che consente di comprend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 modo piu’ o meno esatto, un fatto, un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tuazione o un modo di esse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9040" y="1844640"/>
            <a:ext cx="780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ato: cio’ che e’ immediatamente presen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a conoscenza, prima di ogni elabor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8680" y="4797360"/>
            <a:ext cx="809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formatica: studio della conservazione, del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laborazione e della rappresentazi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ll’informaz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Il Sistema operativo (S.O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componenti fisici sono accessibili attraverso software dedic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ftware di sistema o di b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no forniti assieme all’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’insieme di questi programmi forma il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istema Oper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1700280"/>
            <a:ext cx="76932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cora process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stione della mem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stione delle periferic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le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caz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U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ss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98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15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6666"/>
                </a:solidFill>
                <a:latin typeface="Arial"/>
              </a:rPr>
              <a:t>SCHEMA RIASSUNTIVO 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11280" y="1413000"/>
            <a:ext cx="7772040" cy="4679640"/>
            <a:chOff x="611280" y="1413000"/>
            <a:chExt cx="7772040" cy="4679640"/>
          </a:xfrm>
        </p:grpSpPr>
        <p:sp>
          <p:nvSpPr>
            <p:cNvPr id="91" name=""/>
            <p:cNvSpPr/>
            <p:nvPr/>
          </p:nvSpPr>
          <p:spPr>
            <a:xfrm>
              <a:off x="611280" y="1413000"/>
              <a:ext cx="7772040" cy="4679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57960" y="1506240"/>
              <a:ext cx="531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Sistema organizzativ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116000" y="1989000"/>
            <a:ext cx="6768720" cy="3815640"/>
            <a:chOff x="1116000" y="1989000"/>
            <a:chExt cx="6768720" cy="3815640"/>
          </a:xfrm>
        </p:grpSpPr>
        <p:sp>
          <p:nvSpPr>
            <p:cNvPr id="94" name=""/>
            <p:cNvSpPr/>
            <p:nvPr/>
          </p:nvSpPr>
          <p:spPr>
            <a:xfrm>
              <a:off x="1116000" y="1989000"/>
              <a:ext cx="6768720" cy="3815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48000" y="1989000"/>
              <a:ext cx="5040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Sistema informativ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692360" y="2565360"/>
            <a:ext cx="5831640" cy="2950560"/>
            <a:chOff x="1692360" y="2565360"/>
            <a:chExt cx="5831640" cy="2950560"/>
          </a:xfrm>
        </p:grpSpPr>
        <p:sp>
          <p:nvSpPr>
            <p:cNvPr id="97" name=""/>
            <p:cNvSpPr/>
            <p:nvPr/>
          </p:nvSpPr>
          <p:spPr>
            <a:xfrm>
              <a:off x="1692360" y="2565360"/>
              <a:ext cx="5831640" cy="295056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98720" y="2565360"/>
              <a:ext cx="475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3366"/>
                  </a:solidFill>
                  <a:latin typeface="Arial"/>
                </a:rPr>
                <a:t>Sistema informatic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268360" y="3141720"/>
            <a:ext cx="4751280" cy="2086920"/>
            <a:chOff x="2268360" y="3141720"/>
            <a:chExt cx="4751280" cy="2086920"/>
          </a:xfrm>
        </p:grpSpPr>
        <p:sp>
          <p:nvSpPr>
            <p:cNvPr id="100" name=""/>
            <p:cNvSpPr/>
            <p:nvPr/>
          </p:nvSpPr>
          <p:spPr>
            <a:xfrm>
              <a:off x="2268360" y="3141720"/>
              <a:ext cx="4751280" cy="20869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8200" y="3141720"/>
              <a:ext cx="38764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3366"/>
                  </a:solidFill>
                  <a:latin typeface="Arial"/>
                </a:rPr>
                <a:t>Informazioni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132000" y="3716280"/>
            <a:ext cx="2592360" cy="1015920"/>
            <a:chOff x="3132000" y="3716280"/>
            <a:chExt cx="2592360" cy="1015920"/>
          </a:xfrm>
        </p:grpSpPr>
        <p:sp>
          <p:nvSpPr>
            <p:cNvPr id="103" name=""/>
            <p:cNvSpPr/>
            <p:nvPr/>
          </p:nvSpPr>
          <p:spPr>
            <a:xfrm>
              <a:off x="3132000" y="3716280"/>
              <a:ext cx="2592360" cy="97812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68080" y="3716280"/>
              <a:ext cx="2115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3366"/>
                  </a:solidFill>
                  <a:latin typeface="Arial"/>
                </a:rPr>
                <a:t>Dati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609480" y="-2430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UN PROBLE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7040" y="2693880"/>
            <a:ext cx="77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sa significa: “Societa’ dell’Informazione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l concetto di algorit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aborazione delle informazion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4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dat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di parten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risultat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erca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FID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o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raggiungere il risultato cercato dai dati di partenz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1:17:17Z</dcterms:created>
  <dc:creator>castella</dc:creator>
  <dc:description/>
  <dc:language>en-US</dc:language>
  <cp:lastModifiedBy>piana</cp:lastModifiedBy>
  <dcterms:modified xsi:type="dcterms:W3CDTF">2005-10-29T21:27:22Z</dcterms:modified>
  <cp:revision>52</cp:revision>
  <dc:subject/>
  <dc:title>Lezione 2: integrazione</dc:title>
</cp:coreProperties>
</file>