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FDA-5E80-4E10-A5FD-AD9FCCB6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B72-DB47-4035-B0EA-A0EEC78B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370-DBE6-4AEF-8A01-F880AC79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D72-E260-4C9B-8A52-B6CEB5EF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F599-9258-427A-891E-B4F24C03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37EF-B5F2-4010-92AE-2B0CCA9F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086-84BE-41CD-8836-2415AB85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EBF4-BEB4-46D6-9320-ADFC41AD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A8F2-A571-48B7-8F42-B9609A7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655E-750D-4C6A-AF25-766181D1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A218-3CA8-40B5-B289-051504A5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E4B-195E-41DE-A0BE-F4B41DCE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6526-02EC-4962-BC63-EBC15DE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CE89-8DAF-444D-834F-32871F4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F870-9D95-44AF-B2A7-2D343240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CD2E-CE70-4C18-8DF2-A84FE551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579B-F4E5-4080-BC79-F9F34DEB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C79-7379-4B8C-986B-F80630F7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AF65-B1C5-4DE0-BCED-0DE7D1FB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EC3-9342-4FDE-920A-BAD54F1D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3554-5EA0-498C-BEDC-CCF73681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9D4-EF52-4DCF-B2EF-8764AB35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740-8447-4C14-A89A-5B6B25A2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46A-55D4-4C4F-83AC-B902B4F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DE2-2EE8-4047-9460-EAE52B45115A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10F1-E6A2-4E0C-861E-82C30EBF6DE0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zione 9: S.O. e applicazion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365720"/>
            <a:ext cx="39610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Informatica di 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Docente: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Arial"/>
              </a:rPr>
              <a:t>Michele P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820080" y="462600"/>
            <a:ext cx="7808040" cy="8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ssi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98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nalizzazione: e’ possibile adottare un proprio stile d’uso dei programm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izzazione: l’uniformita’ delle IU consente di focalizzarsi sulla funzionalita’. La standardizzazione aumenta l’efficienz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-24300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a elettron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Anche la posta elettronica funziona con lo schema client-serv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 client e un server per il mitt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Un client e un server per il destina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si evita che mittente e destinatario siano on-line contemporanea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ttente: SMT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mittente opera con un client e invia il messaggio al suo server incaricato della spedizione; Simple Mail Transfer Protocol (SM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server del mittente invia il messaggio al server che mantiene la mailbox del destinatario (ancora mediante SMT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tinatario: POP3 o I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66"/>
                </a:solidFill>
                <a:latin typeface="Arial"/>
              </a:rPr>
              <a:t>Il destinatario accede alla sua mailbox attraverso un client e ottiene il messaggio in esso contenuto; Post Office Protocol 3 (POP3) oppure Internet Message Access Protocol (IMAP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faccia utente: Cap. 8 (introduzione), paragrafo 8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ati: paragrafo 8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ssione: paragrafo 8.2.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cazione come sistemi: paragrafo 8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a: paragrafo 8.4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5-12-07T08:38:08Z</dcterms:modified>
  <cp:revision>40</cp:revision>
  <dc:subject/>
  <dc:title>Lezione 2: integrazione</dc:title>
</cp:coreProperties>
</file>