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10.xml" ContentType="application/vnd.openxmlformats-officedocument.presentationml.comments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astella" initials="c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3-11-17T17:25:36.865000000" idx="1">
    <p:pos x="10" y="1"/>
    <p:text>le tracce sono dei cerchi concentrici della stessa larghezza (corrispondente alla larghezza della testina) contentente lo stesso numero di bit
Ogni settore contiene un blocco di dati - record, unità minima di trasferimento tra M.M e M.C</p:text>
  </p:cm>
</p:cmLst>
</file>

<file path=ppt/comments/comment12.xml><?xml version="1.0" encoding="utf-8"?>
<p:cmLst xmlns:p="http://schemas.openxmlformats.org/presentationml/2006/main">
  <p:cm authorId="0" dt="2003-11-17T17:33:04.399000000" idx="2">
    <p:pos x="10" y="10"/>
    <p:text>Il disco ruota a velocità costante
I dischi si magnetizzano su entrambi i lati
la testina si sposta in senso laterale
Gli HD sono composti da più dischi magnetici distanziati di pochi millimetri.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BBC-BB17-4E82-A721-F4B08183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6E5-08E1-4F72-B8B3-36281D78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0C7-5366-42B2-A5FF-91564E95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6D0-A568-4AD6-8AE2-C554F6B9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12FA-B998-4A09-BE05-AB6FAE2D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E292-24E3-49AF-B9D8-6149E26F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780B-9532-468A-A34C-66ED040D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9487-357A-4F8B-A9E8-C027DFC2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79BC-4629-4AFC-B900-DB600F76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24EC-5C05-46F9-93AE-FAF08B50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A4F5-A744-44C6-B51A-9EE058E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827-CBAC-4B58-8231-B3722AF6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F5CF-DA5B-45C4-97E9-ED15D6DB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2D55-C369-4EA4-BB70-447FA007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02F9-7E1B-4CA4-90D0-960548B9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5763-3E39-471C-BA44-39A7A874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8FBF-0B2B-4BCD-BC6A-6680F4F2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07F-2D6A-46CB-ACC8-2EC56609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D76-9F4E-478E-ABF0-6F6CB93D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5CBF-B1F4-40F4-B776-87470151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14F-B2AF-49C6-A9C6-88FA8CA4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871-175F-4839-9D52-4ECA1EBE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BD6-450E-4B18-AAFD-06133E99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D24-0091-48F8-9480-699E669D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FFD8-66AF-4FCA-A8CA-16E0F71C2782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B3A7-1998-40CF-907C-9240F63C9AA1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zione 6: Strutture Hardwar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formatica di bas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06760" y="449640"/>
            <a:ext cx="7834680" cy="6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HI OTTIC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1628640"/>
            <a:ext cx="8126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apacità di 650 MBy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CD-ROM (Compact Disc – Read Only Memory) vs </a:t>
            </a:r>
            <a:r>
              <a:rPr b="1" i="1" lang="it-IT" sz="2400" spc="-1" strike="noStrike">
                <a:solidFill>
                  <a:srgbClr val="003366"/>
                </a:solidFill>
                <a:latin typeface="Arial"/>
              </a:rPr>
              <a:t>Recordable</a:t>
            </a: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 (CD-RW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I dati vengono memorizzati rendendo lucide o opache (1 o 0) delle zone microscopiche di una pellicola di alluminio annegata all’interno di un supporto plastico trasparente circol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La lettura avviene attraverso un raggio laser (riflessione – 1, o non-riflessione – 0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I dati sono memorizzati secondo un unico percorso a spirale (dal centro alla periferi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Velocità di lettura nell’ordine dei MByte/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IASSUNTO DELLA LEZIONE PRECEDEN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FACCIA I/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comunicazione tra il calcolatore e l’ambiente esterno avviene attraverso dei dispositivi di I/O detti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perifer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periferica viene controllata tramite interfaccie che traducono i segnali interni al calcolatore in formati comprensibili alla perife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RTE di I/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e interfaccie sono realizzate tramite schede che vengono inserite sulla scheda madre (ad incastro o cabl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La periferica si collega attraverso opportuni connettori detti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porte di I/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64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6487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TI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Meccaniche o elettromagnet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Quando si preme un tasto viene generato un segnale di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interruzion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che viene mandato al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gestore degli interrupt di tastiera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. Ad ogni tasto si associa un segnale diver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Quando il tasto viene rilasciato si verifica una seconda interru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MPAN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’ la periferica che riporta su carta i risultati di una elabor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mpanti ad agh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la testina di scrittura contiene un insieme di aghi pilotabili singolarmente. I caratteri si ottengono dalle diverse configurazioni di punti (aghi) stampati su ca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MPANTI (II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mpanti a getto d’inchiostro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 caratteri si formano da configurazioni di punti realizzati trasferendo sulla carta gocce microscopiche di inchiostr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no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conomiche, silenziose (rispetto alle stampanti ad aghi), ottima qualità di stampa, colo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MPANTI(III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Stampanti laser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: l’immagine della pagina da stampare viene impressa su un rullo di materiale fotosensibile da un raggio laser che carica elettricamente le zone raggiunte; queste zone attirano le particelle di inchiostro (toner) sulla ca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Qualità di stampa elevata, buona velocità, costi non eccessivi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38240" y="0"/>
            <a:ext cx="946332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o a qu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D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ispositivi per il trasferimento dei dati da un calcolatore ad utilizzando la tradizionale rete telefon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Modulatore e demodulatore </a:t>
            </a:r>
            <a:r>
              <a:rPr b="0" i="1" lang="it-IT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Occorre tradurre i segnali da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digital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ad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analogico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(Computer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Rete telefonica) e da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analogico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a </a:t>
            </a:r>
            <a:r>
              <a:rPr b="0" i="1" lang="it-IT" sz="2800" spc="-1" strike="noStrike">
                <a:solidFill>
                  <a:srgbClr val="ff0000"/>
                </a:solidFill>
                <a:latin typeface="Arial"/>
              </a:rPr>
              <a:t>digital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(Rete telefonica </a:t>
            </a:r>
            <a:r>
              <a:rPr b="0" lang="it-IT" sz="28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mputer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ttualmente raggiunge i 56 Kbit/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TI di CALCOLATOR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ieme di calcolatori autonomi tra loro collegati mediante una rete di comunic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li utenti sono in grado di interagire in modo esplicito con la re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calcolatori connessi alla rete mantengono un grado di interdipendenza: in caso di guasto della rete (o parte della rete) i singoli calcolatori continuano a funzion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FERIMENTI AL LIB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morie di massa: da pag. 173 a pag. 176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 pag. 178 a pag. 18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rte: da pag. 180 a pag. 182 (in al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feriche: da pag. 184 a pag. 190 (in al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rastutture di rete: da pag. 245 a pag. 249 (in alto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83412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UTO DELLA LE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838080" y="1773000"/>
            <a:ext cx="7693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emorie di mas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r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asti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ni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ampa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d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ti di calcolato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MORIA DI MA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8126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Non volatilit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Grande capacit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Contie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i che servono agli uten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Programmi che servono al funzionamento del sistema (S.O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Funzionano anche in assenza di aliment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Sono basati su tecnologie magnetiche e ott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17:17Z</dcterms:created>
  <dc:creator>castella</dc:creator>
  <dc:description/>
  <dc:language>en-US</dc:language>
  <cp:lastModifiedBy>piana</cp:lastModifiedBy>
  <dcterms:modified xsi:type="dcterms:W3CDTF">2006-11-20T17:37:26Z</dcterms:modified>
  <cp:revision>112</cp:revision>
  <dc:subject/>
  <dc:title>Lezione 2: integrazione</dc:title>
</cp:coreProperties>
</file>