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905-08B7-492C-B736-132EAF9A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24F-3F98-4109-B498-C437B70F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669-2407-40A4-905F-5B30CC9A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979-0BDC-4DB1-A023-50CF938B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A286-225E-4459-AA7C-6679F519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50EA-EC1D-4708-BFD9-1DA5CD94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6A3A-3CAB-4CC1-8698-8C5FD7A0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59E3-9F49-4616-B6CE-D002B076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596C-7F9C-4880-9370-B644E70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53B-5501-4CB2-AD15-CD2AB414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73B3-9B35-460E-8F04-19D79AAE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3A44-8DD6-45C4-9E46-DF0BFCDD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40EF-85E9-46B5-968B-A53F905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6D2C-7C3B-4C89-8BDA-D416E60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0CBB-D56D-4D2C-A90E-8A93E97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A63F-1EC9-4A77-84A7-D1870628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B299-C5EE-4C10-A1AD-217C07ED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38F-A313-4ADA-8B14-3983D267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A7BB-942D-4881-BDB3-4E5082CF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779-A950-48F4-9F11-74CA83FD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6FA-3B94-44B6-8690-5D313FFC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F4F-9207-4B85-9E27-D8412E72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987-ED0C-4E3A-B15C-09C1EB3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35A-1963-4264-A595-B312EB75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AFF1-DF8A-44A0-87FF-B1D23B0AEF8D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B561-EA4A-4864-8D11-F0F5531EC07F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66"/>
                </a:solidFill>
                <a:latin typeface="Arial"/>
              </a:rPr>
              <a:t>Lezione 8: S.O. e applicazioni I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365720"/>
            <a:ext cx="3961080" cy="18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Informatica di ba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66"/>
                </a:solidFill>
                <a:latin typeface="Arial"/>
              </a:rPr>
              <a:t>Docente:</a:t>
            </a:r>
            <a:r>
              <a:rPr b="0" lang="it-IT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6666"/>
                </a:solidFill>
                <a:latin typeface="Arial"/>
              </a:rPr>
              <a:t>Michele Pia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0440" y="463320"/>
            <a:ext cx="7807320" cy="8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UTO DELLA LE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cora proce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a memor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e periferich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 syst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cazio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ASSUNTO DELLA LEZIONE PRECED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FERIMENTI AL LIB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a memoria: paragrafo 6.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stione delle periferiche: paragrafo 6.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e system: paragrafi 6.5, 6.5.1, 6.5.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Il Sistema operativo (S.O.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 componenti fisici sono accessibili attraverso software dedica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oftware di sistema o di 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no forniti assieme all’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’insieme di questi programmi forma il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istema Oper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6T21:17:17Z</dcterms:created>
  <dc:creator>castella</dc:creator>
  <dc:description/>
  <dc:language>en-US</dc:language>
  <cp:lastModifiedBy>piana</cp:lastModifiedBy>
  <dcterms:modified xsi:type="dcterms:W3CDTF">2005-12-04T09:20:27Z</dcterms:modified>
  <cp:revision>37</cp:revision>
  <dc:subject/>
  <dc:title>Lezione 2: integrazione</dc:title>
</cp:coreProperties>
</file>